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D1F-390A-4A06-B389-6C245115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913-462B-4B37-ACE4-76C455D6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308-8CD4-41CF-A28A-B2E596D2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580-0C2A-4471-8CDB-FF355054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CA5-5D18-428B-AD27-F223B75B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44FD-DDEC-4970-A706-DFD64E84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A78-FF10-4AFD-A5EC-A8C3CB3C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672-38AA-4943-8433-09C28AD3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C39-95E4-49DD-865B-F1E27AB8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057-E7FF-4D12-BF76-E6A152AC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EA3-8789-40BA-A840-920EC1BA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3A62-6BFF-4AE6-9C17-FBE0CB01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B404-3945-4A69-A170-C01E758C979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163.20.119.100/f2blog/index.php?job=category&amp;seekname=40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13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0033"/>
                </a:solidFill>
                <a:latin typeface="Arial"/>
                <a:ea typeface="標楷體"/>
              </a:rPr>
              <a:t>樂在學習的腦</a:t>
            </a:r>
            <a:br>
              <a:rPr sz="4000"/>
            </a:br>
            <a:r>
              <a:rPr b="0" lang="zh-TW" sz="4000" spc="-1" strike="noStrike">
                <a:solidFill>
                  <a:srgbClr val="660033"/>
                </a:solidFill>
                <a:latin typeface="Arial"/>
                <a:ea typeface="標楷體"/>
              </a:rPr>
              <a:t>神經科學可以解答的教育問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發展中的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幼兒期的語文與數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數學的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讀寫的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閱讀的學習與困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社交及情緒發展的異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青少年的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終身學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學習與記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不同的學習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駕馭大腦的學習力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相關書籍介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大學塾﹝</a:t>
            </a: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大腦心理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090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63360"/>
            <a:ext cx="8893440" cy="675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8893440" cy="73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33"/>
                </a:solidFill>
                <a:latin typeface="Arial"/>
                <a:ea typeface="標楷體"/>
              </a:rPr>
              <a:t>多元智慧多元開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805040"/>
            <a:ext cx="914400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1378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443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33"/>
                </a:solidFill>
                <a:latin typeface="Arial"/>
                <a:ea typeface="標楷體"/>
              </a:rPr>
              <a:t>教學現場的群腦互動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33"/>
                </a:solidFill>
                <a:latin typeface="Arial"/>
                <a:ea typeface="標楷體"/>
              </a:rPr>
              <a:t>自我體驗、看教養與學習的應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編排的浸潤狀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積極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放鬆的警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地球上最精妙的機器，醫學研究頂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與電腦相呼應的再設計→教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33"/>
                </a:solidFill>
                <a:latin typeface="Arial"/>
                <a:ea typeface="標楷體"/>
              </a:rPr>
              <a:t>大腦相容</a:t>
            </a:r>
            <a:r>
              <a:rPr b="0" lang="zh-TW" sz="4400" spc="-1" strike="noStrike">
                <a:solidFill>
                  <a:srgbClr val="660033"/>
                </a:solidFill>
                <a:latin typeface="Arial"/>
                <a:ea typeface="標楷體"/>
              </a:rPr>
              <a:t>12</a:t>
            </a:r>
            <a:r>
              <a:rPr b="0" lang="zh-TW" sz="4400" spc="-1" strike="noStrike">
                <a:solidFill>
                  <a:srgbClr val="660033"/>
                </a:solidFill>
                <a:latin typeface="Arial"/>
                <a:ea typeface="標楷體"/>
              </a:rPr>
              <a:t>教學原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建立學習環境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學習因挑戰而提昇其效果。                 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情緒是統整學習的關鍵因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學習同時牽涉聚焦與廣泛的知覺訊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運用外顯及內蘊的記憶系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大腦同時處理部分與整體的訊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大腦內有一套空間記憶系統，及一套死背的記憶系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33"/>
                </a:solidFill>
                <a:latin typeface="標楷體"/>
                <a:ea typeface="標楷體"/>
              </a:rPr>
              <a:t>大腦相容</a:t>
            </a:r>
            <a:r>
              <a:rPr b="0" lang="zh-TW" sz="4400" spc="-1" strike="noStrike">
                <a:solidFill>
                  <a:srgbClr val="660033"/>
                </a:solidFill>
                <a:latin typeface="標楷體"/>
                <a:ea typeface="標楷體"/>
              </a:rPr>
              <a:t>12</a:t>
            </a:r>
            <a:r>
              <a:rPr b="0" lang="zh-TW" sz="4400" spc="-1" strike="noStrike">
                <a:solidFill>
                  <a:srgbClr val="660033"/>
                </a:solidFill>
                <a:latin typeface="標楷體"/>
                <a:ea typeface="標楷體"/>
              </a:rPr>
              <a:t>教學原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輸入訊息的處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大腦是一個平行處理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學習是一全面性的身體活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每一個大腦都是獨一無二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當事件儲存於自然的空間記憶系統時，理解與記憶的情況最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意義的形成</a:t>
            </a:r>
            <a:r>
              <a:rPr b="0" lang="zh-TW" sz="2800" spc="-1" strike="noStrike">
                <a:solidFill>
                  <a:srgbClr val="0000ff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意義形成的作用乃是持續發展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意義形成的作用經由統整的學習而產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學習包含意識及無意識過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60033"/>
                </a:solidFill>
                <a:latin typeface="標楷體"/>
                <a:ea typeface="標楷體"/>
              </a:rPr>
              <a:t>大腦相容</a:t>
            </a:r>
            <a:r>
              <a:rPr b="0" lang="zh-TW" sz="4400" spc="-1" strike="noStrike">
                <a:solidFill>
                  <a:srgbClr val="660033"/>
                </a:solidFill>
                <a:latin typeface="標楷體"/>
                <a:ea typeface="標楷體"/>
              </a:rPr>
              <a:t>7</a:t>
            </a:r>
            <a:r>
              <a:rPr b="0" lang="zh-TW" sz="4400" spc="-1" strike="noStrike">
                <a:solidFill>
                  <a:srgbClr val="660033"/>
                </a:solidFill>
                <a:latin typeface="標楷體"/>
                <a:ea typeface="標楷體"/>
              </a:rPr>
              <a:t>教學原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健康情緒和安全的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身體，運動，與大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相關的內容和學生的選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時間，時間，並有更多時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為大腦提供豐富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評估和反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合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0033"/>
                </a:solidFill>
                <a:latin typeface="Arial"/>
                <a:ea typeface="標楷體"/>
              </a:rPr>
              <a:t>大腦當家～</a:t>
            </a:r>
            <a:br>
              <a:rPr sz="3600"/>
            </a:br>
            <a:r>
              <a:rPr b="1" lang="zh-TW" sz="3600" spc="-1" strike="noStrike">
                <a:solidFill>
                  <a:srgbClr val="660033"/>
                </a:solidFill>
                <a:latin typeface="標楷體"/>
                <a:ea typeface="標楷體"/>
              </a:rPr>
              <a:t>靈活用腦</a:t>
            </a:r>
            <a:r>
              <a:rPr b="1" lang="zh-TW" sz="3600" spc="-1" strike="noStrike">
                <a:solidFill>
                  <a:srgbClr val="660033"/>
                </a:solidFill>
                <a:latin typeface="標楷體"/>
                <a:ea typeface="標楷體"/>
              </a:rPr>
              <a:t>12</a:t>
            </a:r>
            <a:r>
              <a:rPr b="1" lang="zh-TW" sz="3600" spc="-1" strike="noStrike">
                <a:solidFill>
                  <a:srgbClr val="660033"/>
                </a:solidFill>
                <a:latin typeface="標楷體"/>
                <a:ea typeface="標楷體"/>
              </a:rPr>
              <a:t>守則，學習工作更上層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運動：運動增強腦力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生存：大腦也是演化的產物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大腦迴路：每一個大腦的配線都不相同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注意力：人們不會去注意無聊的東西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短期記憶：重複才記得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長期記憶：記得去重複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睡眠：睡得好，記得清楚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壓力：承受壓力的大腦不能如常的學習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感覺的整合：刺激多重感官，反應更迅速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視覺：視覺凌駕所有感官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性別：男性和女性的腦是不一樣的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探索：我們是不屈不撓的天生探索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60033"/>
                </a:solidFill>
                <a:latin typeface="Arial"/>
                <a:ea typeface="標楷體"/>
              </a:rPr>
              <a:t>孩子日益成長的智能：</a:t>
            </a:r>
            <a:br>
              <a:rPr sz="4000"/>
            </a:br>
            <a:r>
              <a:rPr b="0" lang="zh-TW" sz="4000" spc="-1" strike="noStrike">
                <a:solidFill>
                  <a:srgbClr val="660033"/>
                </a:solidFill>
                <a:latin typeface="Arial"/>
                <a:ea typeface="標楷體"/>
              </a:rPr>
              <a:t>從出生到青春期的大腦發展和學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第一部　大腦發展和學習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打開「黑盒子」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智能的開端：在嬰兒期奠定基礎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從幼稚園到學校，兩歲到七歲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發展時間表、學習障礙和注意力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從兒童到青少年：裝備成人的頭腦，八歲以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第二部　學習的基礎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腦半球、學習風格、左右手習慣和性別差異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語言發展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學習的工具：智能、記憶和動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ff"/>
                </a:solidFill>
                <a:latin typeface="標楷體"/>
                <a:ea typeface="標楷體"/>
              </a:rPr>
              <a:t>第三部　應用學習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孩子用大腦閱讀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紙面上的思維：寫作和拼寫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從部分到整體：發展數學和科學技能</a:t>
            </a:r>
            <a:br>
              <a:rPr sz="2000"/>
            </a:b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創造性智能在成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0:42:58Z</dcterms:created>
  <dc:creator>cyc</dc:creator>
  <dc:description/>
  <dc:language>en-US</dc:language>
  <cp:lastModifiedBy>user</cp:lastModifiedBy>
  <dcterms:modified xsi:type="dcterms:W3CDTF">2009-07-13T00:49:00Z</dcterms:modified>
  <cp:revision>8</cp:revision>
  <dc:subject/>
  <dc:title>投影片 1</dc:title>
</cp:coreProperties>
</file>