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6FD-AA62-42F1-92F7-5229CF71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9EC-5697-4E7C-811B-916DBAA2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9D9-9A96-47F5-9431-4780FF6C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825-7D9F-4174-9797-7DEC1A77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A73-0AC4-4BCE-AEBF-DE507052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CBB-3341-4AB7-AA13-4F6B1816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618A-2155-4796-BE6D-F8552856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A14-1887-4D12-BE62-F877934F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9C7-8EC7-4D59-8F33-2A622F6F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40E-E128-49AC-9581-6761C825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669-837D-4F52-A322-46701065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757-CFBA-4210-9F34-BF55F755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E92F-2303-42E7-891A-251EB66204F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iwen.com.tw/index.php?PA=bkdata&amp;b_id=2864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7040" y="333360"/>
            <a:ext cx="86299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PBL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推薦書籍與網站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專案式學習手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問題解決的教與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重理解的課程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重理解的課程設計～專業發展實用手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問題引導學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雄市未來學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義國中、微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BL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、創意教學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作業說明～分享你的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PBL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規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ston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畫圖並匯出為圖片上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註：這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keyston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在期末也是學習歷程檔案，隨著每週進度，他會愈長愈大喔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24000" y="-263520"/>
            <a:ext cx="9782280" cy="77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2781360"/>
            <a:ext cx="3076560" cy="2190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5338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84720" y="3429000"/>
            <a:ext cx="4390920" cy="2562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3971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4438440" cy="3672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4467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84720" y="404640"/>
            <a:ext cx="4430520" cy="328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2543400" cy="113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68360" y="836640"/>
            <a:ext cx="3076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4495680" cy="3047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5338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63360"/>
            <a:ext cx="8893440" cy="675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大家來合作畫畫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48052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0:42:58Z</dcterms:created>
  <dc:creator>cyc</dc:creator>
  <dc:description/>
  <dc:language>en-US</dc:language>
  <cp:lastModifiedBy>user</cp:lastModifiedBy>
  <dcterms:modified xsi:type="dcterms:W3CDTF">2009-07-13T07:32:04Z</dcterms:modified>
  <cp:revision>11</cp:revision>
  <dc:subject/>
  <dc:title>投影片 1</dc:title>
</cp:coreProperties>
</file>