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533-C78C-4773-AE0D-65635696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829-0AD6-4C47-8D88-3398AC81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A21-0C4D-4638-8262-47C818E5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BF9-8F78-49D0-A809-C0686D51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268-B219-4C65-A57E-B0573051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E4A-1A06-448D-B551-1C7EE2B6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FA3-7E9A-4E96-9C08-AEC8FFD0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0C0-485F-4A51-AA6B-160DA44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3F0-77F1-4284-9AF0-16433661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9EC-0001-432E-8332-BD8087F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452-69A2-473B-B427-420C191A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FBA-4C4B-4CC3-A4B6-34018391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E6AA-F245-4167-98CF-B73AC6E4C10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../Inetpub/wwwroot/information93/002/WebQuest/introduce/&#26408;&#26825;.doc" TargetMode="External"/><Relationship Id="rId3" Type="http://schemas.openxmlformats.org/officeDocument/2006/relationships/hyperlink" Target="file:///../../../../../Inetpub/wwwroot/information93/002/WebQuest/introduce/&#26963;&#39321;.doc" TargetMode="External"/><Relationship Id="rId4" Type="http://schemas.openxmlformats.org/officeDocument/2006/relationships/hyperlink" Target="file:///../../../../../Inetpub/wwwroot/information93/002/WebQuest/introduce/&#40845;&#26575;.doc" TargetMode="External"/><Relationship Id="rId5" Type="http://schemas.openxmlformats.org/officeDocument/2006/relationships/hyperlink" Target="file:///../../../../../Inetpub/wwwroot/information93/002/WebQuest/introduce/&#35242;&#35242;&#26657;&#27193;&#21021;&#39636;&#39511;.doc" TargetMode="External"/><Relationship Id="rId6" Type="http://schemas.openxmlformats.org/officeDocument/2006/relationships/hyperlink" Target="file:///../../../../../Inetpub/wwwroot/information93/002/WebQuest/introduce/&#35242;&#35242;&#26657;&#27193;&#21021;&#39636;&#39511;&#20108;.doc" TargetMode="Externa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2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2.xml"/><Relationship Id="rId24" Type="http://schemas.openxmlformats.org/officeDocument/2006/relationships/slide" Target="slide2.xml"/><Relationship Id="rId2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2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2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2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" Target="slide3.xml"/><Relationship Id="rId11" Type="http://schemas.openxmlformats.org/officeDocument/2006/relationships/slide" Target="slide6.xml"/><Relationship Id="rId12" Type="http://schemas.openxmlformats.org/officeDocument/2006/relationships/slide" Target="slide8.xml"/><Relationship Id="rId13" Type="http://schemas.openxmlformats.org/officeDocument/2006/relationships/slide" Target="slide7.xml"/><Relationship Id="rId14" Type="http://schemas.openxmlformats.org/officeDocument/2006/relationships/slide" Target="slide2.xml"/><Relationship Id="rId15" Type="http://schemas.openxmlformats.org/officeDocument/2006/relationships/slide" Target="slide5.xml"/><Relationship Id="rId16" Type="http://schemas.openxmlformats.org/officeDocument/2006/relationships/slide" Target="slide4.xml"/><Relationship Id="rId17" Type="http://schemas.openxmlformats.org/officeDocument/2006/relationships/slide" Target="slide4.xml"/><Relationship Id="rId18" Type="http://schemas.openxmlformats.org/officeDocument/2006/relationships/slide" Target="slide3.xml"/><Relationship Id="rId19" Type="http://schemas.openxmlformats.org/officeDocument/2006/relationships/slide" Target="slide5.xml"/><Relationship Id="rId20" Type="http://schemas.openxmlformats.org/officeDocument/2006/relationships/slide" Target="slide2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" Target="slide6.xml"/><Relationship Id="rId25" Type="http://schemas.openxmlformats.org/officeDocument/2006/relationships/slide" Target="slide7.xml"/><Relationship Id="rId26" Type="http://schemas.openxmlformats.org/officeDocument/2006/relationships/slide" Target="slide8.xm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3.xml"/><Relationship Id="rId10" Type="http://schemas.openxmlformats.org/officeDocument/2006/relationships/slide" Target="slide6.xml"/><Relationship Id="rId11" Type="http://schemas.openxmlformats.org/officeDocument/2006/relationships/slide" Target="slide8.xml"/><Relationship Id="rId12" Type="http://schemas.openxmlformats.org/officeDocument/2006/relationships/slide" Target="slide7.xml"/><Relationship Id="rId13" Type="http://schemas.openxmlformats.org/officeDocument/2006/relationships/slide" Target="slide2.xml"/><Relationship Id="rId14" Type="http://schemas.openxmlformats.org/officeDocument/2006/relationships/slide" Target="slide5.xml"/><Relationship Id="rId15" Type="http://schemas.openxmlformats.org/officeDocument/2006/relationships/slide" Target="slide4.xml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aiwanflora.sinica.edu.tw/" TargetMode="External"/><Relationship Id="rId3" Type="http://schemas.openxmlformats.org/officeDocument/2006/relationships/hyperlink" Target="http://www.sinica.edu.tw/~hastwww/" TargetMode="Externa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4.xml"/><Relationship Id="rId11" Type="http://schemas.openxmlformats.org/officeDocument/2006/relationships/slide" Target="slide2.xml"/><Relationship Id="rId12" Type="http://schemas.openxmlformats.org/officeDocument/2006/relationships/slide" Target="slide3.xml"/><Relationship Id="rId13" Type="http://schemas.openxmlformats.org/officeDocument/2006/relationships/slide" Target="slide4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7.xml"/><Relationship Id="rId17" Type="http://schemas.openxmlformats.org/officeDocument/2006/relationships/slide" Target="slide8.xml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2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綠影扶疏映洲園</a:t>
            </a:r>
            <a:br>
              <a:rPr sz="4000"/>
            </a:br>
            <a:r>
              <a:rPr b="0" lang="zh-TW" sz="4000" spc="-1" strike="noStrike">
                <a:solidFill>
                  <a:srgbClr val="0000ff"/>
                </a:solidFill>
                <a:latin typeface="Times New Roman"/>
                <a:ea typeface="文鼎新藝體"/>
              </a:rPr>
              <a:t>WebQuest</a:t>
            </a:r>
            <a:r>
              <a:rPr b="0" lang="zh-TW" sz="4000" spc="-1" strike="noStrike">
                <a:solidFill>
                  <a:srgbClr val="0000ff"/>
                </a:solidFill>
                <a:latin typeface="Times New Roman"/>
                <a:ea typeface="文鼎新藝體"/>
              </a:rPr>
              <a:t>教學模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9621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宜蘭縣大洲國小五年級特色課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設計者：吳炳琳、李馥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教師專頁─反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生初期資料整理均以網路為主要來源，包含圖片與文字等均是，似乎缺少校本的原創性，若在圖像取得方面，能授以數位拍照或素描技能，相信更能符合教學目標。如：【</a:t>
            </a:r>
            <a:r>
              <a:rPr b="0" lang="zh-TW" sz="2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  <a:hlinkClick r:id="rId2"/>
              </a:rPr>
              <a:t>木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   </a:t>
            </a:r>
            <a:r>
              <a:rPr b="0" lang="zh-TW" sz="2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  <a:hlinkClick r:id="rId3"/>
              </a:rPr>
              <a:t>楓香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   </a:t>
            </a:r>
            <a:r>
              <a:rPr b="0" lang="zh-TW" sz="2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  <a:hlinkClick r:id="rId4"/>
              </a:rPr>
              <a:t>龍柏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習單的設計也關乎學習的效果。如：【</a:t>
            </a:r>
            <a:r>
              <a:rPr b="0" lang="zh-TW" sz="2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  <a:hlinkClick r:id="rId5"/>
              </a:rPr>
              <a:t>親親校樹初體驗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   </a:t>
            </a:r>
            <a:r>
              <a:rPr b="0" lang="zh-TW" sz="2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  <a:hlinkClick r:id="rId6"/>
              </a:rPr>
              <a:t>親親校樹初體驗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組員人數應依據班級學生特性做彈性調整，避免產生游離份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如何將觀察紀錄或學習單內容轉寫為主題報告，也是指導的關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生完成的作品可置入教學檔案或連結於班級網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於搜尋適當網站時，發現有很多學校也有建置「校園植物」相關網站，這也是很不錯的資料來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擔任解說員時，有學生容易怯場，如何讓學生能勇於展現自己，亦為指導重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0" y="3049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0" y="1143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9" action="ppaction://hlinksldjump"/>
          </p:cNvPr>
          <p:cNvSpPr/>
          <p:nvPr/>
        </p:nvSpPr>
        <p:spPr>
          <a:xfrm>
            <a:off x="0" y="2057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0" action="ppaction://hlinksldjump"/>
          </p:cNvPr>
          <p:cNvSpPr/>
          <p:nvPr/>
        </p:nvSpPr>
        <p:spPr>
          <a:xfrm>
            <a:off x="0" y="28954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1" action="ppaction://hlinksldjump"/>
          </p:cNvPr>
          <p:cNvSpPr/>
          <p:nvPr/>
        </p:nvSpPr>
        <p:spPr>
          <a:xfrm>
            <a:off x="0" y="38098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2" action="ppaction://hlinksldjump"/>
          </p:cNvPr>
          <p:cNvSpPr/>
          <p:nvPr/>
        </p:nvSpPr>
        <p:spPr>
          <a:xfrm>
            <a:off x="0" y="55627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380880"/>
            <a:ext cx="1406520" cy="5639040"/>
            <a:chOff x="0" y="380880"/>
            <a:chExt cx="1406520" cy="5639040"/>
          </a:xfrm>
        </p:grpSpPr>
        <p:sp>
          <p:nvSpPr>
            <p:cNvPr id="248" name="">
              <a:hlinkClick r:id="rId13" action="ppaction://hlinksldjump"/>
            </p:cNvPr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4" action="ppaction://hlinksldjump"/>
                </a:rPr>
                <a:t>簡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>
              <a:hlinkClick r:id="rId15" action="ppaction://hlinksldjump"/>
            </p:cNvPr>
            <p:cNvSpPr/>
            <p:nvPr/>
          </p:nvSpPr>
          <p:spPr>
            <a:xfrm>
              <a:off x="0" y="12193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6" action="ppaction://hlinksldjump"/>
                </a:rPr>
                <a:t>概念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>
              <a:hlinkClick r:id="rId17" action="ppaction://hlinksldjump"/>
            </p:cNvPr>
            <p:cNvSpPr/>
            <p:nvPr/>
          </p:nvSpPr>
          <p:spPr>
            <a:xfrm>
              <a:off x="0" y="205740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8" action="ppaction://hlinksldjump"/>
                </a:rPr>
                <a:t>反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>
              <a:hlinkClick r:id="rId19" action="ppaction://hlinksldjump"/>
            </p:cNvPr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0" action="ppaction://hlinksldjump"/>
                </a:rPr>
                <a:t>結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>
              <a:hlinkClick r:id="rId21" action="ppaction://hlinksldjump"/>
            </p:cNvPr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2" action="ppaction://hlinksldjump"/>
                </a:rPr>
                <a:t>參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>
              <a:hlinkClick r:id="rId23" action="ppaction://hlinksldjump"/>
            </p:cNvPr>
            <p:cNvSpPr/>
            <p:nvPr/>
          </p:nvSpPr>
          <p:spPr>
            <a:xfrm>
              <a:off x="0" y="55627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4" action="ppaction://hlinksldjump"/>
                </a:rPr>
                <a:t>學生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教師專頁─結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  <a:ea typeface="標楷體"/>
              </a:rPr>
              <a:t>           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標楷體"/>
              </a:rPr>
              <a:t>經過本主題探究的教學歷程，學生在電腦設備的操作、圖文資料的蒐集與運用等學習技能均能有所進步，若實施其他主題探究應能遊刃有餘。再者，除了對校園裡的花花草草有更進一步的認識外，另外在情意目標的培養上，也有更進一步的提升，如小組分工合作、由認識轉化為關懷與愛護、以及對大自然生命的尊重，並且能向他人傳達意念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0" y="3049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0" y="1143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0" y="2057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5" action="ppaction://hlinksldjump"/>
          </p:cNvPr>
          <p:cNvSpPr/>
          <p:nvPr/>
        </p:nvSpPr>
        <p:spPr>
          <a:xfrm>
            <a:off x="0" y="28954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0" y="38098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7" action="ppaction://hlinksldjump"/>
          </p:cNvPr>
          <p:cNvSpPr/>
          <p:nvPr/>
        </p:nvSpPr>
        <p:spPr>
          <a:xfrm>
            <a:off x="0" y="55627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380880"/>
            <a:ext cx="1406520" cy="5639040"/>
            <a:chOff x="0" y="380880"/>
            <a:chExt cx="1406520" cy="5639040"/>
          </a:xfrm>
        </p:grpSpPr>
        <p:sp>
          <p:nvSpPr>
            <p:cNvPr id="264" name="">
              <a:hlinkClick r:id="rId8" action="ppaction://hlinksldjump"/>
            </p:cNvPr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9" action="ppaction://hlinksldjump"/>
                </a:rPr>
                <a:t>簡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>
              <a:hlinkClick r:id="rId10" action="ppaction://hlinksldjump"/>
            </p:cNvPr>
            <p:cNvSpPr/>
            <p:nvPr/>
          </p:nvSpPr>
          <p:spPr>
            <a:xfrm>
              <a:off x="0" y="12193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概念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>
              <a:hlinkClick r:id="rId12" action="ppaction://hlinksldjump"/>
            </p:cNvPr>
            <p:cNvSpPr/>
            <p:nvPr/>
          </p:nvSpPr>
          <p:spPr>
            <a:xfrm>
              <a:off x="0" y="205740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反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>
              <a:hlinkClick r:id="rId14" action="ppaction://hlinksldjump"/>
            </p:cNvPr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5" action="ppaction://hlinksldjump"/>
                </a:rPr>
                <a:t>結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>
              <a:hlinkClick r:id="rId16" action="ppaction://hlinksldjump"/>
            </p:cNvPr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7" action="ppaction://hlinksldjump"/>
                </a:rPr>
                <a:t>參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18" action="ppaction://hlinksldjump"/>
            </p:cNvPr>
            <p:cNvSpPr/>
            <p:nvPr/>
          </p:nvSpPr>
          <p:spPr>
            <a:xfrm>
              <a:off x="0" y="55627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9" action="ppaction://hlinksldjump"/>
                </a:rPr>
                <a:t>學生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教師專頁─參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0" y="3049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1143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4" action="ppaction://hlinksldjump"/>
          </p:cNvPr>
          <p:cNvSpPr/>
          <p:nvPr/>
        </p:nvSpPr>
        <p:spPr>
          <a:xfrm>
            <a:off x="0" y="2057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5" action="ppaction://hlinksldjump"/>
          </p:cNvPr>
          <p:cNvSpPr/>
          <p:nvPr/>
        </p:nvSpPr>
        <p:spPr>
          <a:xfrm>
            <a:off x="0" y="28954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0" y="38098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7" action="ppaction://hlinksldjump"/>
          </p:cNvPr>
          <p:cNvSpPr/>
          <p:nvPr/>
        </p:nvSpPr>
        <p:spPr>
          <a:xfrm>
            <a:off x="0" y="55627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380880"/>
            <a:ext cx="1406520" cy="5639040"/>
            <a:chOff x="0" y="380880"/>
            <a:chExt cx="1406520" cy="5639040"/>
          </a:xfrm>
        </p:grpSpPr>
        <p:sp>
          <p:nvSpPr>
            <p:cNvPr id="279" name="">
              <a:hlinkClick r:id="rId8" action="ppaction://hlinksldjump"/>
            </p:cNvPr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9" action="ppaction://hlinksldjump"/>
                </a:rPr>
                <a:t>簡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>
              <a:hlinkClick r:id="rId10" action="ppaction://hlinksldjump"/>
            </p:cNvPr>
            <p:cNvSpPr/>
            <p:nvPr/>
          </p:nvSpPr>
          <p:spPr>
            <a:xfrm>
              <a:off x="0" y="12193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概念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>
              <a:hlinkClick r:id="rId12" action="ppaction://hlinksldjump"/>
            </p:cNvPr>
            <p:cNvSpPr/>
            <p:nvPr/>
          </p:nvSpPr>
          <p:spPr>
            <a:xfrm>
              <a:off x="0" y="205740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反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文鼎新藝體"/>
                </a:rPr>
                <a:t>結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文鼎新藝體"/>
                </a:rPr>
                <a:t>參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55627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ff"/>
                  </a:solidFill>
                  <a:latin typeface="Times New Roman"/>
                  <a:ea typeface="文鼎新藝體"/>
                </a:rPr>
                <a:t>學生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447920" y="1066680"/>
            <a:ext cx="7315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網站資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灣本土植物資料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植物大觀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植物圖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台灣賞樹情報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大樹出版社，張碧員著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和花花草草玩遊戲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上、下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(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中華兒童叢書，高嘉蔆著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實地察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情境介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標楷體"/>
              </a:rPr>
              <a:t>大洲校園有著十分豐富的植物資源，綠地面積佔學校總土地面積百分之四十強，但以往只是提供於美化綠化校園景觀、望遠凝視、或大地活動之用，在教學方面的運用少之又少，甚為可惜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希望藉此單元活動，讓這些綠色資源能充分發揮功用，在學習活動中，能更了解他們、愛護他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80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0" y="3809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0" y="5562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19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57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4479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0" y="380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380880"/>
            <a:ext cx="1406520" cy="5638680"/>
            <a:chOff x="0" y="380880"/>
            <a:chExt cx="1406520" cy="5638680"/>
          </a:xfrm>
        </p:grpSpPr>
        <p:sp>
          <p:nvSpPr>
            <p:cNvPr id="59" name=""/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9" action="ppaction://hlinksldjump"/>
                </a:rPr>
                <a:t>情境介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18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0" action="ppaction://hlinksldjump"/>
                </a:rPr>
                <a:t>學習任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05704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探索過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2" action="ppaction://hlinksldjump"/>
                </a:rPr>
                <a:t>資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評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4647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4" action="ppaction://hlinksldjump"/>
                </a:rPr>
                <a:t>總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55623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5" action="ppaction://hlinksldjump"/>
                </a:rPr>
                <a:t>教師專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學習任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生分組完成校園植物主題報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完成的主題報告製成簡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擔任校園植物解說員─向二年級小朋友解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0" y="3809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990720" y="55627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6" action="ppaction://hlinksldjump"/>
          </p:cNvPr>
          <p:cNvSpPr/>
          <p:nvPr/>
        </p:nvSpPr>
        <p:spPr>
          <a:xfrm>
            <a:off x="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7" action="ppaction://hlinksldjump"/>
          </p:cNvPr>
          <p:cNvSpPr/>
          <p:nvPr/>
        </p:nvSpPr>
        <p:spPr>
          <a:xfrm>
            <a:off x="0" y="304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9" action="ppaction://hlinksldjump"/>
          </p:cNvPr>
          <p:cNvSpPr/>
          <p:nvPr/>
        </p:nvSpPr>
        <p:spPr>
          <a:xfrm>
            <a:off x="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0" action="ppaction://hlinksldjump"/>
          </p:cNvPr>
          <p:cNvSpPr/>
          <p:nvPr/>
        </p:nvSpPr>
        <p:spPr>
          <a:xfrm>
            <a:off x="152280" y="1371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1" action="ppaction://hlinksldjump"/>
          </p:cNvPr>
          <p:cNvSpPr/>
          <p:nvPr/>
        </p:nvSpPr>
        <p:spPr>
          <a:xfrm>
            <a:off x="0" y="3809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2" action="ppaction://hlinksldjump"/>
          </p:cNvPr>
          <p:cNvSpPr/>
          <p:nvPr/>
        </p:nvSpPr>
        <p:spPr>
          <a:xfrm>
            <a:off x="0" y="5562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152280" y="48006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4" action="ppaction://hlinksldjump"/>
          </p:cNvPr>
          <p:cNvSpPr/>
          <p:nvPr/>
        </p:nvSpPr>
        <p:spPr>
          <a:xfrm>
            <a:off x="152280" y="533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5" action="ppaction://hlinksldjump"/>
          </p:cNvPr>
          <p:cNvSpPr/>
          <p:nvPr/>
        </p:nvSpPr>
        <p:spPr>
          <a:xfrm>
            <a:off x="152280" y="30481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6" action="ppaction://hlinksldjump"/>
          </p:cNvPr>
          <p:cNvSpPr/>
          <p:nvPr/>
        </p:nvSpPr>
        <p:spPr>
          <a:xfrm>
            <a:off x="152280" y="22096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7" action="ppaction://hlinksldjump"/>
          </p:cNvPr>
          <p:cNvSpPr/>
          <p:nvPr/>
        </p:nvSpPr>
        <p:spPr>
          <a:xfrm>
            <a:off x="0" y="2057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8" action="ppaction://hlinksldjump"/>
          </p:cNvPr>
          <p:cNvSpPr/>
          <p:nvPr/>
        </p:nvSpPr>
        <p:spPr>
          <a:xfrm>
            <a:off x="0" y="1219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9" action="ppaction://hlinksldjump"/>
          </p:cNvPr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380880"/>
            <a:ext cx="1406520" cy="5638680"/>
            <a:chOff x="0" y="380880"/>
            <a:chExt cx="1406520" cy="5638680"/>
          </a:xfrm>
        </p:grpSpPr>
        <p:sp>
          <p:nvSpPr>
            <p:cNvPr id="88" name=""/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0" action="ppaction://hlinksldjump"/>
                </a:rPr>
                <a:t>情境介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218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1" action="ppaction://hlinksldjump"/>
                </a:rPr>
                <a:t>學習任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05704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2" action="ppaction://hlinksldjump"/>
                </a:rPr>
                <a:t>探索過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3" action="ppaction://hlinksldjump"/>
                </a:rPr>
                <a:t>資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4" action="ppaction://hlinksldjump"/>
                </a:rPr>
                <a:t>評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647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5" action="ppaction://hlinksldjump"/>
                </a:rPr>
                <a:t>總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623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6" action="ppaction://hlinksldjump"/>
                </a:rPr>
                <a:t>教師專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380880"/>
            <a:ext cx="1406520" cy="5638680"/>
            <a:chOff x="0" y="380880"/>
            <a:chExt cx="1406520" cy="5638680"/>
          </a:xfrm>
        </p:grpSpPr>
        <p:sp>
          <p:nvSpPr>
            <p:cNvPr id="97" name=""/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2" action="ppaction://hlinksldjump"/>
                </a:rPr>
                <a:t>情境介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218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3" action="ppaction://hlinksldjump"/>
                </a:rPr>
                <a:t>學習任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05704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4" action="ppaction://hlinksldjump"/>
                </a:rPr>
                <a:t>探索過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5" action="ppaction://hlinksldjump"/>
                </a:rPr>
                <a:t>資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6" action="ppaction://hlinksldjump"/>
                </a:rPr>
                <a:t>評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647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7" action="ppaction://hlinksldjump"/>
                </a:rPr>
                <a:t>總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55623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8" action="ppaction://hlinksldjump"/>
                </a:rPr>
                <a:t>教師專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探索過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生分二至三人為一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擇訂小組研究主題─以校園植物為範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組討論研究方向與分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運用各種方式蒐集研究主題相關資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課餘時間觀察主題植物之四季變化，並作成紀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所蒐集之資料重新編輯並彙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資料製成簡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擔任小小解說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9" action="ppaction://hlinksldjump"/>
          </p:cNvPr>
          <p:cNvSpPr/>
          <p:nvPr/>
        </p:nvSpPr>
        <p:spPr>
          <a:xfrm>
            <a:off x="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0" action="ppaction://hlinksldjump"/>
          </p:cNvPr>
          <p:cNvSpPr/>
          <p:nvPr/>
        </p:nvSpPr>
        <p:spPr>
          <a:xfrm>
            <a:off x="0" y="3809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1" action="ppaction://hlinksldjump"/>
          </p:cNvPr>
          <p:cNvSpPr/>
          <p:nvPr/>
        </p:nvSpPr>
        <p:spPr>
          <a:xfrm>
            <a:off x="0" y="5562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2" action="ppaction://hlinksldjump"/>
          </p:cNvPr>
          <p:cNvSpPr/>
          <p:nvPr/>
        </p:nvSpPr>
        <p:spPr>
          <a:xfrm>
            <a:off x="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0" y="380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4" action="ppaction://hlinksldjump"/>
          </p:cNvPr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5" action="ppaction://hlinksldjump"/>
          </p:cNvPr>
          <p:cNvSpPr/>
          <p:nvPr/>
        </p:nvSpPr>
        <p:spPr>
          <a:xfrm>
            <a:off x="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資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網站資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2"/>
              </a:rPr>
              <a:t>台灣本土植物資料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ff"/>
                </a:solidFill>
                <a:uFillTx/>
                <a:latin typeface="Times New Roman"/>
                <a:ea typeface="標楷體"/>
                <a:hlinkClick r:id="rId3"/>
              </a:rPr>
              <a:t>植物大觀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植物圖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台灣賞樹情報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大樹出版社，張碧員著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和花花草草玩遊戲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上、下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(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中華兒童叢書，高嘉蔆著</a:t>
            </a:r>
            <a:r>
              <a:rPr b="0" lang="zh-TW" sz="24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實地察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0" y="3809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0" y="5562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8" action="ppaction://hlinksldjump"/>
          </p:cNvPr>
          <p:cNvSpPr/>
          <p:nvPr/>
        </p:nvSpPr>
        <p:spPr>
          <a:xfrm>
            <a:off x="0" y="380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9" action="ppaction://hlinksldjump"/>
          </p:cNvPr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09480"/>
            <a:ext cx="1406520" cy="5638680"/>
            <a:chOff x="0" y="609480"/>
            <a:chExt cx="1406520" cy="5638680"/>
          </a:xfrm>
        </p:grpSpPr>
        <p:sp>
          <p:nvSpPr>
            <p:cNvPr id="124" name=""/>
            <p:cNvSpPr/>
            <p:nvPr/>
          </p:nvSpPr>
          <p:spPr>
            <a:xfrm>
              <a:off x="0" y="609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情境介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4475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2" action="ppaction://hlinksldjump"/>
                </a:rPr>
                <a:t>學習任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228564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探索過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1240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4" action="ppaction://hlinksldjump"/>
                </a:rPr>
                <a:t>資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038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5" action="ppaction://hlinksldjump"/>
                </a:rPr>
                <a:t>評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8765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6" action="ppaction://hlinksldjump"/>
                </a:rPr>
                <a:t>總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5790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7" action="ppaction://hlinksldjump"/>
                </a:rPr>
                <a:t>教師專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評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0" y="37339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0" y="5562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0" y="380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8" action="ppaction://hlinksldjump"/>
          </p:cNvPr>
          <p:cNvSpPr/>
          <p:nvPr/>
        </p:nvSpPr>
        <p:spPr>
          <a:xfrm>
            <a:off x="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00200" y="1219320"/>
          <a:ext cx="7238880" cy="5437080"/>
        </p:xfrm>
        <a:graphic>
          <a:graphicData uri="http://schemas.openxmlformats.org/drawingml/2006/table">
            <a:tbl>
              <a:tblPr/>
              <a:tblGrid>
                <a:gridCol w="762120"/>
                <a:gridCol w="1143000"/>
                <a:gridCol w="1197000"/>
                <a:gridCol w="1164960"/>
                <a:gridCol w="1143000"/>
                <a:gridCol w="1143000"/>
                <a:gridCol w="68580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標楷體"/>
                          <a:ea typeface="標楷體"/>
                        </a:rPr>
                        <a:t>向度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向度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標楷體"/>
                          <a:ea typeface="標楷體"/>
                        </a:rPr>
                        <a:t>向度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99ff"/>
                          </a:solidFill>
                          <a:latin typeface="標楷體"/>
                          <a:ea typeface="標楷體"/>
                        </a:rPr>
                        <a:t>向度</a:t>
                      </a: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ccff"/>
                          </a:solidFill>
                          <a:latin typeface="標楷體"/>
                          <a:ea typeface="標楷體"/>
                        </a:rPr>
                        <a:t>向度</a:t>
                      </a:r>
                      <a:r>
                        <a:rPr b="1" lang="en-US" sz="2000" spc="-1" strike="noStrike">
                          <a:solidFill>
                            <a:srgbClr val="33ccff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得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書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報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工不足、資料未經整理、觀察紀錄不實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料雖經整理，但偏離主題，且觀察紀錄不完整、部分組員未參與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料整理、觀察紀錄尚可，唯圖文比例分配待加強、分工比例不一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組員分工合作、資料內容圖文並茂，能呼應主題，唯觀察紀錄可再加強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組員分工合作、資料內容圖文並茂，能呼應主題，且觀察紀錄詳盡，堪為模範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簡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未將資料製成簡報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簡報資料未能列出重點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雖製成簡報但未精簡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簡報圖文比例分配不當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簡報資料內容清晰，結構有條不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說者膽怯，無法解說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說者口齒不清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說內容有誤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說清晰但與觀眾少有互動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說清晰且能引起觀眾的共鳴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0" y="609480"/>
            <a:ext cx="1406520" cy="5638680"/>
            <a:chOff x="0" y="609480"/>
            <a:chExt cx="1406520" cy="5638680"/>
          </a:xfrm>
        </p:grpSpPr>
        <p:sp>
          <p:nvSpPr>
            <p:cNvPr id="142" name=""/>
            <p:cNvSpPr/>
            <p:nvPr/>
          </p:nvSpPr>
          <p:spPr>
            <a:xfrm>
              <a:off x="0" y="609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9" action="ppaction://hlinksldjump"/>
                </a:rPr>
                <a:t>情境介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4475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0" action="ppaction://hlinksldjump"/>
                </a:rPr>
                <a:t>學習任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228564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探索過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1240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2" action="ppaction://hlinksldjump"/>
                </a:rPr>
                <a:t>資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4038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評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8765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4" action="ppaction://hlinksldjump"/>
                </a:rPr>
                <a:t>總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5790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5" action="ppaction://hlinksldjump"/>
                </a:rPr>
                <a:t>教師專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總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透過此一主題探索活動，期盼小朋友能習得下列事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與人分工合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蒐集資料並重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仔細觀察並紀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解說主題報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體驗生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1219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0" y="3809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4" action="ppaction://hlinksldjump"/>
          </p:cNvPr>
          <p:cNvSpPr/>
          <p:nvPr/>
        </p:nvSpPr>
        <p:spPr>
          <a:xfrm>
            <a:off x="0" y="5562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5" action="ppaction://hlinksldjump"/>
          </p:cNvPr>
          <p:cNvSpPr/>
          <p:nvPr/>
        </p:nvSpPr>
        <p:spPr>
          <a:xfrm>
            <a:off x="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6" action="ppaction://hlinksldjump"/>
          </p:cNvPr>
          <p:cNvSpPr/>
          <p:nvPr/>
        </p:nvSpPr>
        <p:spPr>
          <a:xfrm>
            <a:off x="0" y="380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7" action="ppaction://hlinksldjump"/>
          </p:cNvPr>
          <p:cNvSpPr/>
          <p:nvPr/>
        </p:nvSpPr>
        <p:spPr>
          <a:xfrm>
            <a:off x="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8" action="ppaction://hlinksldjump"/>
          </p:cNvPr>
          <p:cNvSpPr/>
          <p:nvPr/>
        </p:nvSpPr>
        <p:spPr>
          <a:xfrm>
            <a:off x="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09480"/>
            <a:ext cx="1406520" cy="5638680"/>
            <a:chOff x="0" y="609480"/>
            <a:chExt cx="1406520" cy="5638680"/>
          </a:xfrm>
        </p:grpSpPr>
        <p:sp>
          <p:nvSpPr>
            <p:cNvPr id="160" name=""/>
            <p:cNvSpPr/>
            <p:nvPr/>
          </p:nvSpPr>
          <p:spPr>
            <a:xfrm>
              <a:off x="0" y="609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9" action="ppaction://hlinksldjump"/>
                </a:rPr>
                <a:t>情境介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14475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0" action="ppaction://hlinksldjump"/>
                </a:rPr>
                <a:t>學習任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28564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探索過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31240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2" action="ppaction://hlinksldjump"/>
                </a:rPr>
                <a:t>資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4038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評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8765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4" action="ppaction://hlinksldjump"/>
                </a:rPr>
                <a:t>總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79096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5" action="ppaction://hlinksldjump"/>
                </a:rPr>
                <a:t>教師專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380880"/>
            <a:ext cx="1406520" cy="5639040"/>
            <a:chOff x="0" y="380880"/>
            <a:chExt cx="1406520" cy="5639040"/>
          </a:xfrm>
        </p:grpSpPr>
        <p:sp>
          <p:nvSpPr>
            <p:cNvPr id="169" name="">
              <a:hlinkClick r:id="rId2" action="ppaction://hlinksldjump"/>
            </p:cNvPr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3" action="ppaction://hlinksldjump"/>
                </a:rPr>
                <a:t>簡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>
              <a:hlinkClick r:id="rId4" action="ppaction://hlinksldjump"/>
            </p:cNvPr>
            <p:cNvSpPr/>
            <p:nvPr/>
          </p:nvSpPr>
          <p:spPr>
            <a:xfrm>
              <a:off x="0" y="12193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5" action="ppaction://hlinksldjump"/>
                </a:rPr>
                <a:t>概念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>
              <a:hlinkClick r:id="rId6" action="ppaction://hlinksldjump"/>
            </p:cNvPr>
            <p:cNvSpPr/>
            <p:nvPr/>
          </p:nvSpPr>
          <p:spPr>
            <a:xfrm>
              <a:off x="0" y="205740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7" action="ppaction://hlinksldjump"/>
                </a:rPr>
                <a:t>反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>
              <a:hlinkClick r:id="rId8" action="ppaction://hlinksldjump"/>
            </p:cNvPr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9" action="ppaction://hlinksldjump"/>
                </a:rPr>
                <a:t>結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>
              <a:hlinkClick r:id="rId10" action="ppaction://hlinksldjump"/>
            </p:cNvPr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參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rId12" action="ppaction://hlinksldjump"/>
            </p:cNvPr>
            <p:cNvSpPr/>
            <p:nvPr/>
          </p:nvSpPr>
          <p:spPr>
            <a:xfrm>
              <a:off x="0" y="55627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學生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教師專頁─簡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 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現有的校園植物，學生透過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標楷體"/>
              </a:rPr>
              <a:t>合作學習的方式進行主題探究，培養關心校園環境、愛護生命之情操。此外，透過資訊議題的融入，讓學生運用電腦，收集彙整資料並發表，亦提昇他們的資訊運用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0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33812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文鼎新藝體"/>
              </a:rPr>
              <a:t>教師專頁─概念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52480" y="1219320"/>
            <a:ext cx="7162920" cy="5203440"/>
            <a:chOff x="1752480" y="1219320"/>
            <a:chExt cx="7162920" cy="5203440"/>
          </a:xfrm>
        </p:grpSpPr>
        <p:sp>
          <p:nvSpPr>
            <p:cNvPr id="182" name=""/>
            <p:cNvSpPr/>
            <p:nvPr/>
          </p:nvSpPr>
          <p:spPr>
            <a:xfrm>
              <a:off x="1752480" y="2514600"/>
              <a:ext cx="505080" cy="25909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13500000"/>
            </a:gra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綠影扶疏映洲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124080" y="1219320"/>
              <a:ext cx="1523880" cy="4792320"/>
              <a:chOff x="3124080" y="1219320"/>
              <a:chExt cx="1523880" cy="4792320"/>
            </a:xfrm>
          </p:grpSpPr>
          <p:sp>
            <p:nvSpPr>
              <p:cNvPr id="184" name=""/>
              <p:cNvSpPr/>
              <p:nvPr/>
            </p:nvSpPr>
            <p:spPr>
              <a:xfrm>
                <a:off x="3124080" y="1219320"/>
                <a:ext cx="1523880" cy="3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情境介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24080" y="1931400"/>
                <a:ext cx="1523880" cy="3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學習任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24080" y="2643840"/>
                <a:ext cx="1523880" cy="3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探索過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24080" y="3356640"/>
                <a:ext cx="1523880" cy="3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資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4080" y="4133880"/>
                <a:ext cx="1523880" cy="3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評鑑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24080" y="4845960"/>
                <a:ext cx="1523880" cy="3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總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24080" y="5623200"/>
                <a:ext cx="1523880" cy="3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教師專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1" name=""/>
            <p:cNvCxnSpPr>
              <a:stCxn id="182" idx="3"/>
              <a:endCxn id="184" idx="1"/>
            </p:cNvCxnSpPr>
            <p:nvPr/>
          </p:nvCxnSpPr>
          <p:spPr>
            <a:xfrm flipV="1">
              <a:off x="2276640" y="1414080"/>
              <a:ext cx="848160" cy="2396160"/>
            </a:xfrm>
            <a:prstGeom prst="bentConnector3">
              <a:avLst>
                <a:gd name="adj1" fmla="val 48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82" idx="3"/>
              <a:endCxn id="185" idx="1"/>
            </p:cNvCxnSpPr>
            <p:nvPr/>
          </p:nvCxnSpPr>
          <p:spPr>
            <a:xfrm flipV="1">
              <a:off x="2276640" y="2126880"/>
              <a:ext cx="848160" cy="1683360"/>
            </a:xfrm>
            <a:prstGeom prst="bentConnector3">
              <a:avLst>
                <a:gd name="adj1" fmla="val 48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2" idx="3"/>
              <a:endCxn id="186" idx="1"/>
            </p:cNvCxnSpPr>
            <p:nvPr/>
          </p:nvCxnSpPr>
          <p:spPr>
            <a:xfrm flipV="1">
              <a:off x="2276640" y="2838240"/>
              <a:ext cx="848160" cy="972000"/>
            </a:xfrm>
            <a:prstGeom prst="bentConnector3">
              <a:avLst>
                <a:gd name="adj1" fmla="val 48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2" idx="3"/>
              <a:endCxn id="187" idx="1"/>
            </p:cNvCxnSpPr>
            <p:nvPr/>
          </p:nvCxnSpPr>
          <p:spPr>
            <a:xfrm flipV="1">
              <a:off x="2276640" y="3551040"/>
              <a:ext cx="848160" cy="259200"/>
            </a:xfrm>
            <a:prstGeom prst="bentConnector3">
              <a:avLst>
                <a:gd name="adj1" fmla="val 48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82" idx="3"/>
              <a:endCxn id="188" idx="1"/>
            </p:cNvCxnSpPr>
            <p:nvPr/>
          </p:nvCxnSpPr>
          <p:spPr>
            <a:xfrm>
              <a:off x="2276640" y="3809880"/>
              <a:ext cx="848160" cy="519840"/>
            </a:xfrm>
            <a:prstGeom prst="bentConnector3">
              <a:avLst>
                <a:gd name="adj1" fmla="val 48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82" idx="3"/>
              <a:endCxn id="189" idx="1"/>
            </p:cNvCxnSpPr>
            <p:nvPr/>
          </p:nvCxnSpPr>
          <p:spPr>
            <a:xfrm>
              <a:off x="2276640" y="3809880"/>
              <a:ext cx="848160" cy="1231200"/>
            </a:xfrm>
            <a:prstGeom prst="bentConnector3">
              <a:avLst>
                <a:gd name="adj1" fmla="val 48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2" idx="3"/>
              <a:endCxn id="190" idx="1"/>
            </p:cNvCxnSpPr>
            <p:nvPr/>
          </p:nvCxnSpPr>
          <p:spPr>
            <a:xfrm>
              <a:off x="2276640" y="3809520"/>
              <a:ext cx="848160" cy="2009160"/>
            </a:xfrm>
            <a:prstGeom prst="bentConnector3">
              <a:avLst>
                <a:gd name="adj1" fmla="val 48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5" idx="3"/>
              <a:endCxn id="199" idx="1"/>
            </p:cNvCxnSpPr>
            <p:nvPr/>
          </p:nvCxnSpPr>
          <p:spPr>
            <a:xfrm flipV="1">
              <a:off x="4648320" y="1532880"/>
              <a:ext cx="762480" cy="59436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85" idx="3"/>
              <a:endCxn id="201" idx="1"/>
            </p:cNvCxnSpPr>
            <p:nvPr/>
          </p:nvCxnSpPr>
          <p:spPr>
            <a:xfrm flipV="1">
              <a:off x="4648320" y="1856880"/>
              <a:ext cx="762480" cy="27072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186" idx="3"/>
              <a:endCxn id="203" idx="1"/>
            </p:cNvCxnSpPr>
            <p:nvPr/>
          </p:nvCxnSpPr>
          <p:spPr>
            <a:xfrm flipV="1">
              <a:off x="4648320" y="2504880"/>
              <a:ext cx="762480" cy="33408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86" idx="3"/>
              <a:endCxn id="205" idx="1"/>
            </p:cNvCxnSpPr>
            <p:nvPr/>
          </p:nvCxnSpPr>
          <p:spPr>
            <a:xfrm flipV="1">
              <a:off x="4648320" y="2828160"/>
              <a:ext cx="762480" cy="1044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87" idx="3"/>
              <a:endCxn id="207" idx="1"/>
            </p:cNvCxnSpPr>
            <p:nvPr/>
          </p:nvCxnSpPr>
          <p:spPr>
            <a:xfrm flipV="1">
              <a:off x="4648320" y="3330000"/>
              <a:ext cx="762480" cy="2214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stCxn id="188" idx="3"/>
              <a:endCxn id="209" idx="1"/>
            </p:cNvCxnSpPr>
            <p:nvPr/>
          </p:nvCxnSpPr>
          <p:spPr>
            <a:xfrm flipV="1">
              <a:off x="4648320" y="3800160"/>
              <a:ext cx="762480" cy="5292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88" idx="3"/>
              <a:endCxn id="211" idx="1"/>
            </p:cNvCxnSpPr>
            <p:nvPr/>
          </p:nvCxnSpPr>
          <p:spPr>
            <a:xfrm flipV="1">
              <a:off x="4648320" y="4123440"/>
              <a:ext cx="762480" cy="20556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188" idx="3"/>
              <a:endCxn id="213" idx="1"/>
            </p:cNvCxnSpPr>
            <p:nvPr/>
          </p:nvCxnSpPr>
          <p:spPr>
            <a:xfrm>
              <a:off x="4648320" y="4328640"/>
              <a:ext cx="762480" cy="11988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14" name=""/>
            <p:cNvGrpSpPr/>
            <p:nvPr/>
          </p:nvGrpSpPr>
          <p:grpSpPr>
            <a:xfrm>
              <a:off x="5410080" y="1371600"/>
              <a:ext cx="3505320" cy="5051160"/>
              <a:chOff x="5410080" y="1371600"/>
              <a:chExt cx="3505320" cy="5051160"/>
            </a:xfrm>
          </p:grpSpPr>
          <p:sp>
            <p:nvSpPr>
              <p:cNvPr id="199" name=""/>
              <p:cNvSpPr/>
              <p:nvPr/>
            </p:nvSpPr>
            <p:spPr>
              <a:xfrm>
                <a:off x="5410080" y="1371600"/>
                <a:ext cx="289548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校園植物主題研究報告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10080" y="1695240"/>
                <a:ext cx="1752480" cy="32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研究成果分享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10080" y="2342880"/>
                <a:ext cx="228600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分組擬訂研究主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10080" y="2666520"/>
                <a:ext cx="3124080" cy="32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蒐集資料製成簡報並解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0080" y="3168720"/>
                <a:ext cx="350532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網站資源、植物圖鑑、訪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10080" y="3638160"/>
                <a:ext cx="2057400" cy="32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書面報告資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10080" y="3962160"/>
                <a:ext cx="205740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簡報呈現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10080" y="4285800"/>
                <a:ext cx="205740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口頭說明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10080" y="4803840"/>
                <a:ext cx="1295280" cy="32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簡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10080" y="5127840"/>
                <a:ext cx="129528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概念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10080" y="5451480"/>
                <a:ext cx="129528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反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10080" y="5775120"/>
                <a:ext cx="1295280" cy="32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結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10080" y="6099120"/>
                <a:ext cx="1295280" cy="32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參考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0" name=""/>
            <p:cNvCxnSpPr>
              <a:stCxn id="190" idx="3"/>
              <a:endCxn id="215" idx="1"/>
            </p:cNvCxnSpPr>
            <p:nvPr/>
          </p:nvCxnSpPr>
          <p:spPr>
            <a:xfrm flipV="1">
              <a:off x="4648320" y="4965480"/>
              <a:ext cx="762480" cy="8532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190" idx="3"/>
              <a:endCxn id="216" idx="1"/>
            </p:cNvCxnSpPr>
            <p:nvPr/>
          </p:nvCxnSpPr>
          <p:spPr>
            <a:xfrm flipV="1">
              <a:off x="4648320" y="5289120"/>
              <a:ext cx="762480" cy="5292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190" idx="3"/>
              <a:endCxn id="217" idx="1"/>
            </p:cNvCxnSpPr>
            <p:nvPr/>
          </p:nvCxnSpPr>
          <p:spPr>
            <a:xfrm flipV="1">
              <a:off x="4648320" y="5612760"/>
              <a:ext cx="762480" cy="20556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0" idx="3"/>
              <a:endCxn id="218" idx="1"/>
            </p:cNvCxnSpPr>
            <p:nvPr/>
          </p:nvCxnSpPr>
          <p:spPr>
            <a:xfrm>
              <a:off x="4648320" y="5818320"/>
              <a:ext cx="762480" cy="11952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190" idx="3"/>
              <a:endCxn id="219" idx="1"/>
            </p:cNvCxnSpPr>
            <p:nvPr/>
          </p:nvCxnSpPr>
          <p:spPr>
            <a:xfrm>
              <a:off x="4648320" y="5818320"/>
              <a:ext cx="762480" cy="44352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0" y="3049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0" y="1143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4" action="ppaction://hlinksldjump"/>
          </p:cNvPr>
          <p:cNvSpPr/>
          <p:nvPr/>
        </p:nvSpPr>
        <p:spPr>
          <a:xfrm>
            <a:off x="0" y="2057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5" action="ppaction://hlinksldjump"/>
          </p:cNvPr>
          <p:cNvSpPr/>
          <p:nvPr/>
        </p:nvSpPr>
        <p:spPr>
          <a:xfrm>
            <a:off x="0" y="28954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6" action="ppaction://hlinksldjump"/>
          </p:cNvPr>
          <p:cNvSpPr/>
          <p:nvPr/>
        </p:nvSpPr>
        <p:spPr>
          <a:xfrm>
            <a:off x="0" y="3809880"/>
            <a:ext cx="1447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7" action="ppaction://hlinksldjump"/>
          </p:cNvPr>
          <p:cNvSpPr/>
          <p:nvPr/>
        </p:nvSpPr>
        <p:spPr>
          <a:xfrm>
            <a:off x="0" y="55627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380880"/>
            <a:ext cx="1406520" cy="5639040"/>
            <a:chOff x="0" y="380880"/>
            <a:chExt cx="1406520" cy="5639040"/>
          </a:xfrm>
        </p:grpSpPr>
        <p:sp>
          <p:nvSpPr>
            <p:cNvPr id="232" name="">
              <a:hlinkClick r:id="rId8" action="ppaction://hlinksldjump"/>
            </p:cNvPr>
            <p:cNvSpPr/>
            <p:nvPr/>
          </p:nvSpPr>
          <p:spPr>
            <a:xfrm>
              <a:off x="0" y="380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9" action="ppaction://hlinksldjump"/>
                </a:rPr>
                <a:t>簡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>
              <a:hlinkClick r:id="rId10" action="ppaction://hlinksldjump"/>
            </p:cNvPr>
            <p:cNvSpPr/>
            <p:nvPr/>
          </p:nvSpPr>
          <p:spPr>
            <a:xfrm>
              <a:off x="0" y="12193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1" action="ppaction://hlinksldjump"/>
                </a:rPr>
                <a:t>概念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>
              <a:hlinkClick r:id="rId12" action="ppaction://hlinksldjump"/>
            </p:cNvPr>
            <p:cNvSpPr/>
            <p:nvPr/>
          </p:nvSpPr>
          <p:spPr>
            <a:xfrm>
              <a:off x="0" y="205740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3" action="ppaction://hlinksldjump"/>
                </a:rPr>
                <a:t>反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>
              <a:hlinkClick r:id="rId14" action="ppaction://hlinksldjump"/>
            </p:cNvPr>
            <p:cNvSpPr/>
            <p:nvPr/>
          </p:nvSpPr>
          <p:spPr>
            <a:xfrm>
              <a:off x="0" y="28954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5" action="ppaction://hlinksldjump"/>
                </a:rPr>
                <a:t>結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>
              <a:hlinkClick r:id="rId16" action="ppaction://hlinksldjump"/>
            </p:cNvPr>
            <p:cNvSpPr/>
            <p:nvPr/>
          </p:nvSpPr>
          <p:spPr>
            <a:xfrm>
              <a:off x="0" y="380988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7" action="ppaction://hlinksldjump"/>
                </a:rPr>
                <a:t>參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>
              <a:hlinkClick r:id="rId18" action="ppaction://hlinksldjump"/>
            </p:cNvPr>
            <p:cNvSpPr/>
            <p:nvPr/>
          </p:nvSpPr>
          <p:spPr>
            <a:xfrm>
              <a:off x="0" y="5562720"/>
              <a:ext cx="1406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文鼎新藝體"/>
                  <a:hlinkClick r:id="rId19" action="ppaction://hlinksldjump"/>
                </a:rPr>
                <a:t>學生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3:05:49Z</dcterms:created>
  <dc:creator>admin</dc:creator>
  <dc:description/>
  <dc:language>en-US</dc:language>
  <cp:lastModifiedBy>吳炳琳</cp:lastModifiedBy>
  <dcterms:modified xsi:type="dcterms:W3CDTF">2004-12-19T13:22:50Z</dcterms:modified>
  <cp:revision>39</cp:revision>
  <dc:subject/>
  <dc:title>PowerPoint 簡報</dc:title>
</cp:coreProperties>
</file>