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84E-CD94-4DB4-9B4B-18A84918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D62-1EE8-47C3-B2C8-2CDB16F2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540-4909-452D-B093-9FFF9666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B46-D595-4FD4-8688-72DA1780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A7B-5A16-44C2-966D-65B6BF04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FB2-2FDB-4B0F-8C0D-6EBA86D3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93F-F120-49BD-B4E0-60548CA4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262-8329-4AAD-B14E-06B32A8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B59-5BFD-41F2-AB50-81B34810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367-C643-4CB4-8315-1CFFA0C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33C-4694-4380-B9DA-E7A1048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CB3-4D13-4A06-AB87-763D879A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37B-F59C-4BF1-8523-CB99A4365CA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維高斯基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(1896-193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057400" cy="240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4941720"/>
            <a:ext cx="773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Langford, P. (2005).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Vygotsky's developmental and educational psychology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 Hove England ; New York: Psychology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社會文化發展學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人類是通過歷史而發展的，強調文化、社會對兒童認知發展的影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兒童能力是通過參與成人個別的工作或活動而發展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兒童發展觀點假設社會互動和孩子參與真實的文化活動，均是發展的必要條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人類的心智能力也因需要溝通而發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發展心理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社群建構主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理論強調文化、社會對兒童認知發展的影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知識並不是由個體獨自建構出來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是在互動過程中建構出來的，尤其是在與一個比自己更有知識的人互動的過程中建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互動過程中是依靠思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生產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體的工具包括技巧性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technical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及心理性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psychological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的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技巧性的工具是用以改變事物或控制環境，如紙、筆、各式機器、量器、器械等。心理性的工具則是用來組織或控制思想及行為，如數字、文字、符號、邏輯、社會標準、傳統、繪畫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互動通過語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設計探索網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真實的、屬實的學習任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會文化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設計任務是高於現時學生的學者能力，但又必須要在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nowledgeable 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小組學習，混合不同能力的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教師要不時參與各小組的學習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5:59:56Z</dcterms:created>
  <dc:creator>PUN Sai Wing</dc:creator>
  <dc:description/>
  <dc:language>en-US</dc:language>
  <cp:lastModifiedBy>PUN Sai Wing</cp:lastModifiedBy>
  <dcterms:modified xsi:type="dcterms:W3CDTF">2006-12-13T08:50:24Z</dcterms:modified>
  <cp:revision>9</cp:revision>
  <dc:subject/>
  <dc:title>維高斯基(1896-1934) </dc:title>
</cp:coreProperties>
</file>