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EECA-F9C7-4A84-83E8-3A84CD6B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6BE-9547-46A8-8BAD-79CD3801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7502-D9D8-44B4-818C-763E4770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2949-8A9A-41B2-96AD-3D54FF24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32F1-D3E3-4273-AF35-03CE96B5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C03A-86A7-4D43-85C4-04AC9DEF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C598-932C-4A8F-AA09-24F84BF1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3A3F-DC1C-4E56-BB20-62D23810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5EAC-6449-435C-858F-2526440E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3822-5ECE-4BAE-B7F8-757B9EEF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EB6B-CA44-4D9E-B15E-E47A660E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4CC-FC50-4924-8CA9-C10E9EE6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92E9-1DCA-40F0-B880-D8945DD2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B294-5A09-491B-88DD-E3C6744D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5FED-6F8D-48FC-91FA-AA2C6477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5F98-A5F0-42D5-8BCD-6E982C9D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E311-D11A-4622-9AC6-8B2CC827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510-B8CE-424B-A3A6-A2D66C19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D40-3512-42D5-902E-356F41CA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67C-13D8-4EEB-AE14-53B274B9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3F99-301F-4D66-8BBD-B9D8D13F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A37-7D2E-4814-ABD9-D7548458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A179-EA97-4BB7-A01E-D5BE4BDF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82A-8359-49C1-90FB-75BD19DF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77B5-C5C7-49CF-AE10-3F448381B8A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B398-9EE6-4E91-987F-9CA8E16A0FDF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ngtsan@mail.ht.net.tw" TargetMode="External"/><Relationship Id="rId2" Type="http://schemas.openxmlformats.org/officeDocument/2006/relationships/hyperlink" Target="mailto:Jungtsan@mail.ht.net.tw" TargetMode="External"/><Relationship Id="rId3" Type="http://schemas.openxmlformats.org/officeDocument/2006/relationships/hyperlink" Target="mailto:Jungtsan@mail.ht.net.tw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sers.edte.utwente.nl/winnips/index.html" TargetMode="External"/><Relationship Id="rId2" Type="http://schemas.openxmlformats.org/officeDocument/2006/relationships/hyperlink" Target="http://users.edte.utwente.nl/winnips/index.html" TargetMode="External"/><Relationship Id="rId3" Type="http://schemas.openxmlformats.org/officeDocument/2006/relationships/hyperlink" Target="http://report.ice.ntnu.edu.tw/nscreport/882520126002" TargetMode="External"/><Relationship Id="rId4" Type="http://schemas.openxmlformats.org/officeDocument/2006/relationships/hyperlink" Target="http://report.ice.ntnu.edu.tw/nscreport/8825112591" TargetMode="External"/><Relationship Id="rId5" Type="http://schemas.openxmlformats.org/officeDocument/2006/relationships/hyperlink" Target="http://www.bio.ncue.edu.tw/c&amp;t/issue9-10/v10-2.htm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Scaffolding The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2640" y="2895480"/>
            <a:ext cx="7620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Times New Roman"/>
                <a:ea typeface="標楷體"/>
              </a:rPr>
              <a:t>臺南縣永康市大橋國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Times New Roman"/>
                <a:ea typeface="標楷體"/>
              </a:rPr>
              <a:t>馬榮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jungtsan@mail</a:t>
            </a:r>
            <a:r>
              <a:rPr b="0" lang="zh-TW" sz="20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.ht.net</a:t>
            </a:r>
            <a:r>
              <a:rPr b="0" lang="zh-TW" sz="20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.t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0066"/>
                </a:solidFill>
                <a:latin typeface="Times New Roman"/>
              </a:rPr>
              <a:t>http://www.dc2es.tnc.edu.tw/~jt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bbd83"/>
                </a:solidFill>
                <a:latin typeface="Times New Roman"/>
              </a:rPr>
              <a:t>1999.12.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Modeling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塑形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為要求的動作提供樣本，因此許多重要的步驟和決定被強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目標：學習者模仿專家的行為模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當模型消失時，學生應該用自己的思考模式取代跟隨一個樣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9900"/>
                </a:solidFill>
                <a:latin typeface="Times New Roman"/>
              </a:rPr>
              <a:t>Coaching</a:t>
            </a:r>
            <a:r>
              <a:rPr b="1" lang="zh-TW" sz="4400" spc="-1" strike="noStrike">
                <a:solidFill>
                  <a:srgbClr val="ff9900"/>
                </a:solidFill>
                <a:latin typeface="標楷體"/>
                <a:ea typeface="標楷體"/>
              </a:rPr>
              <a:t>訓練</a:t>
            </a:r>
            <a:r>
              <a:rPr b="1" lang="zh-TW" sz="4400" spc="-1" strike="noStrike">
                <a:solidFill>
                  <a:srgbClr val="ff9900"/>
                </a:solidFill>
                <a:latin typeface="標楷體"/>
                <a:ea typeface="標楷體"/>
              </a:rPr>
              <a:t>(</a:t>
            </a:r>
            <a:r>
              <a:rPr b="1" lang="zh-TW" sz="4400" spc="-1" strike="noStrike">
                <a:solidFill>
                  <a:srgbClr val="ff9900"/>
                </a:solidFill>
                <a:latin typeface="標楷體"/>
                <a:ea typeface="標楷體"/>
              </a:rPr>
              <a:t>輔導</a:t>
            </a:r>
            <a:r>
              <a:rPr b="1" lang="zh-TW" sz="4400" spc="-1" strike="noStrike">
                <a:solidFill>
                  <a:srgbClr val="ff9900"/>
                </a:solidFill>
                <a:latin typeface="標楷體"/>
                <a:ea typeface="標楷體"/>
              </a:rPr>
              <a:t>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靠自己完成被請求的動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Give hints,prompts,provides 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減少支援，但在訓練過程中不被明顯提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Times New Roman"/>
                <a:ea typeface="標楷體"/>
              </a:rPr>
              <a:t>額外的支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ntextual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sking”leading question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iving away parts of th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Modeling / Coaching / Scaffold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defi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696440" cy="4500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Times New Roman"/>
                <a:ea typeface="標楷體"/>
              </a:rPr>
              <a:t>鷹架教學法六原則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在實際教學活動中，由專家充當學習者能力發展的鷹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支持的程度依學習者學習前的程度而調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學習者的能力增進時，支持的數量隨之遞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支持的多少與工作難度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支持以逐步漸近與隨時校正的方式進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支持以導向內在化為目標，逐漸使學習者能夠獨立自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Times New Roman"/>
                <a:ea typeface="標楷體"/>
              </a:rPr>
              <a:t>教師的角色與任務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教練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，而非〞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知識的傳播者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模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輔助者：</a:t>
            </a:r>
            <a:r>
              <a:rPr b="0" lang="zh-TW" sz="3200" spc="-1" strike="noStrike">
                <a:solidFill>
                  <a:srgbClr val="666699"/>
                </a:solidFill>
                <a:latin typeface="Times New Roman"/>
                <a:ea typeface="標楷體"/>
              </a:rPr>
              <a:t>全程陪伴、指導學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指導員：</a:t>
            </a:r>
            <a:r>
              <a:rPr b="0" lang="zh-TW" sz="3200" spc="-1" strike="noStrike">
                <a:solidFill>
                  <a:srgbClr val="666699"/>
                </a:solidFill>
                <a:latin typeface="Times New Roman"/>
                <a:ea typeface="標楷體"/>
              </a:rPr>
              <a:t>鼓勵學生積極參與活動並以「架設鷹架」的方式來支持學生的學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同伴：</a:t>
            </a:r>
            <a:r>
              <a:rPr b="0" lang="zh-TW" sz="3200" spc="-1" strike="noStrike">
                <a:solidFill>
                  <a:srgbClr val="666699"/>
                </a:solidFill>
                <a:latin typeface="Times New Roman"/>
                <a:ea typeface="標楷體"/>
              </a:rPr>
              <a:t>變成學生的角色，檢視學習困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Times New Roman"/>
                <a:ea typeface="華康儷粗黑"/>
              </a:rPr>
              <a:t>參考資料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1828800"/>
            <a:ext cx="7543800" cy="29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Koos Winnips </a:t>
            </a:r>
            <a:r>
              <a:rPr b="0" lang="zh-TW" sz="2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users</a:t>
            </a:r>
            <a:r>
              <a:rPr b="0" lang="zh-TW" sz="24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.edte.utwente.nl/win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694b6"/>
                </a:solidFill>
                <a:latin typeface="Times New Roman"/>
                <a:ea typeface=" ARIAL"/>
              </a:rPr>
              <a:t>A Ph. D. student at the department of ISM of the Faculty of Educational Science and Technology on the University of Tw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翁榮源</a:t>
            </a:r>
            <a:r>
              <a:rPr b="1" lang="zh-TW" sz="2400" spc="-1" strike="noStrike">
                <a:solidFill>
                  <a:srgbClr val="3694b6"/>
                </a:solidFill>
                <a:latin typeface="Times New Roman"/>
              </a:rPr>
              <a:t>  </a:t>
            </a:r>
            <a:r>
              <a:rPr b="0" lang="zh-TW" sz="24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NSC 88-2520-S-126-002</a:t>
            </a:r>
            <a:r>
              <a:rPr b="1" lang="zh-TW" sz="2400" spc="-1" strike="noStrike">
                <a:solidFill>
                  <a:srgbClr val="3694b6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3694b6"/>
                </a:solidFill>
                <a:latin typeface="Times New Roman"/>
              </a:rPr>
              <a:t>靜宜大學應用化學系副教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高台茜</a:t>
            </a:r>
            <a:r>
              <a:rPr b="1" lang="zh-TW" sz="2400" spc="-1" strike="noStrike">
                <a:solidFill>
                  <a:srgbClr val="3694b6"/>
                </a:solidFill>
                <a:latin typeface="Times New Roman"/>
              </a:rPr>
              <a:t>  </a:t>
            </a:r>
            <a:r>
              <a:rPr b="0" lang="zh-TW" sz="2400" spc="-1" strike="noStrike" u="sng">
                <a:solidFill>
                  <a:srgbClr val="660066"/>
                </a:solidFill>
                <a:uFillTx/>
                <a:latin typeface="Times New Roman"/>
                <a:hlinkClick r:id="rId4"/>
              </a:rPr>
              <a:t>NSC 88-2511-S-259-001</a:t>
            </a:r>
            <a:r>
              <a:rPr b="1" lang="zh-TW" sz="2400" spc="-1" strike="noStrike">
                <a:solidFill>
                  <a:srgbClr val="3694b6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3694b6"/>
                </a:solidFill>
                <a:latin typeface="Times New Roman"/>
              </a:rPr>
              <a:t>東華大學教育研究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曾志朗</a:t>
            </a:r>
            <a:r>
              <a:rPr b="1" lang="zh-TW" sz="2400" spc="-1" strike="noStrike">
                <a:solidFill>
                  <a:srgbClr val="3694b6"/>
                </a:solidFill>
                <a:latin typeface="Times New Roman"/>
              </a:rPr>
              <a:t>  </a:t>
            </a:r>
            <a:r>
              <a:rPr b="0" lang="zh-TW" sz="24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網路上的科學教育 </a:t>
            </a:r>
            <a:r>
              <a:rPr b="1" lang="zh-TW" sz="2400" spc="-1" strike="noStrike">
                <a:solidFill>
                  <a:srgbClr val="3694b6"/>
                </a:solidFill>
                <a:latin typeface="Times New Roman"/>
              </a:rPr>
              <a:t>中正大學社會科學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What Is Scaffolding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蘇俄心理學家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維諾斯基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所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信息溝通的過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1bd6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a1bd69"/>
                </a:solidFill>
                <a:latin typeface="Times New Roman"/>
                <a:ea typeface="標楷體"/>
              </a:rPr>
              <a:t>在指導者為學生介紹發表和示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1bd6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a1bd69"/>
                </a:solidFill>
                <a:latin typeface="Times New Roman"/>
                <a:ea typeface="標楷體"/>
              </a:rPr>
              <a:t>學生的動作、行為被訓練、輔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1bd6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a1bd69"/>
                </a:solidFill>
                <a:latin typeface="Times New Roman"/>
                <a:ea typeface="標楷體"/>
              </a:rPr>
              <a:t>逐漸減少支援，直到鷹架不再需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9900"/>
                </a:solidFill>
                <a:latin typeface="Times New Roman"/>
              </a:rPr>
              <a:t>Scaffolding</a:t>
            </a:r>
            <a:r>
              <a:rPr b="0" lang="zh-TW" sz="4400" spc="-1" strike="noStrike">
                <a:solidFill>
                  <a:srgbClr val="ff9900"/>
                </a:solidFill>
                <a:latin typeface="Times New Roman"/>
                <a:ea typeface="標楷體"/>
              </a:rPr>
              <a:t>示意圖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4" name="scaffold" descr=""/>
          <p:cNvPicPr/>
          <p:nvPr/>
        </p:nvPicPr>
        <p:blipFill>
          <a:blip r:embed="rId1"/>
          <a:stretch/>
        </p:blipFill>
        <p:spPr>
          <a:xfrm>
            <a:off x="2556000" y="1752480"/>
            <a:ext cx="464004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9900"/>
                </a:solidFill>
                <a:latin typeface="Times New Roman"/>
              </a:rPr>
              <a:t>Scaffolding</a:t>
            </a:r>
            <a:r>
              <a:rPr b="0" lang="zh-TW" sz="4400" spc="-1" strike="noStrike">
                <a:solidFill>
                  <a:srgbClr val="ff9900"/>
                </a:solidFill>
                <a:latin typeface="Times New Roman"/>
                <a:ea typeface="標楷體"/>
              </a:rPr>
              <a:t>的應用領域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傳統上，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Scaffolding 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存在於指導者和學生的個人互動之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現今，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Scaffolding 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應被整合於課程環境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4419720"/>
            <a:ext cx="777240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診斷推論領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教育工具的設計和發展領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Times New Roman"/>
                <a:ea typeface="標楷體"/>
              </a:rPr>
              <a:t>診斷推論領域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專家建構一個診斷推論的模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學生的推論過程藉由和專家的比較而建立鷹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Times New Roman"/>
                <a:ea typeface="標楷體"/>
              </a:rPr>
              <a:t>教育工具的設計和發展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ISM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學生能對自己設計的活動達到自我導向、自我調節、自我評估的目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Scaffolding in ISM-1(1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兩個層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全部的策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學習過程中提供支援，而後逐漸減少，直到學生成為自恃的設計家，且有組織認知的技術能適時找到資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低層次的策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學生可以對特定的工作要求不同的鷹架支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694b6"/>
                </a:solidFill>
                <a:latin typeface="Times New Roman"/>
                <a:ea typeface="標楷體"/>
              </a:rPr>
              <a:t>Quicktime movie</a:t>
            </a:r>
            <a:r>
              <a:rPr b="0" lang="zh-TW" sz="2800" spc="-1" strike="noStrike">
                <a:solidFill>
                  <a:srgbClr val="3694b6"/>
                </a:solidFill>
                <a:latin typeface="Times New Roman"/>
                <a:ea typeface="標楷體"/>
              </a:rPr>
              <a:t>的例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Scaffolding in ISM-1(2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鷹架設計的過程要經過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線性環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沒有連結，教材現成可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非線性環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有連結，學生可選擇可前進或退回鷹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Scaffolding in ISM-1(3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預先準備一個產品的部份零件，幫助學生並減少他們的厭煩或重複的工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範例：</a:t>
            </a:r>
            <a:r>
              <a:rPr b="0" lang="zh-TW" sz="3200" spc="-1" strike="noStrike">
                <a:solidFill>
                  <a:srgbClr val="ff9900"/>
                </a:solidFill>
                <a:latin typeface="Times New Roman"/>
                <a:ea typeface="標楷體"/>
              </a:rPr>
              <a:t>製作網路動態影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1bd6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a1bd69"/>
                </a:solidFill>
                <a:latin typeface="Times New Roman"/>
                <a:ea typeface="標楷體"/>
              </a:rPr>
              <a:t>收集</a:t>
            </a:r>
            <a:r>
              <a:rPr b="0" lang="zh-TW" sz="2800" spc="-1" strike="noStrike">
                <a:solidFill>
                  <a:srgbClr val="a1bd69"/>
                </a:solidFill>
                <a:latin typeface="Times New Roman"/>
                <a:ea typeface="標楷體"/>
              </a:rPr>
              <a:t>java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1bd6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a1bd69"/>
                </a:solidFill>
                <a:latin typeface="Times New Roman"/>
                <a:ea typeface="標楷體"/>
              </a:rPr>
              <a:t>一套電影的標題樣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1bd6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a1bd69"/>
                </a:solidFill>
                <a:latin typeface="Times New Roman"/>
                <a:ea typeface="標楷體"/>
              </a:rPr>
              <a:t>圖片的收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增加現實主義到課程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為反應的測量，需要一個系統去追蹤學生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follow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的每一環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3T16:41:15Z</dcterms:created>
  <dc:creator>馬榮燦</dc:creator>
  <dc:description/>
  <dc:language>en-US</dc:language>
  <cp:lastModifiedBy>馬榮燦</cp:lastModifiedBy>
  <dcterms:modified xsi:type="dcterms:W3CDTF">2000-01-01T17:14:40Z</dcterms:modified>
  <cp:revision>39</cp:revision>
  <dc:subject/>
  <dc:title>Scaffolding Theory</dc:title>
</cp:coreProperties>
</file>