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F8A6F-910F-4FB9-BCF2-705E794BB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87B0E-CE1D-4296-ACB5-64A69E3C5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12F5B-F9EA-46F7-BFA8-1533424AA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02331-B38A-4137-B0E4-07AE9CD00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DE00D-498B-4465-A1F8-7196B6943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A2EAB-A87F-4026-8E03-5A9A5AD52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以下的就看老師是否需要介紹，我倒覺得，可以讓大家到四個站去逛久一點，尤其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LM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12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研習課程，有時數吸引的。接著要茶敘，然後許老師接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^o^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FCF94-70B7-4536-B67A-58CA8A0BC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D79FF-4A02-45BA-BABF-D05E6927A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9CEF0-CB7B-4B4A-A445-DBA0C5026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3DA58-BD3A-473D-8A6A-A87ACADD8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1AD3E-38C0-4042-920F-D21521B9C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A9C78-4E34-4FFD-9F7F-9033F36CC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E99F3-58B2-4B16-A0D4-C4C020ACF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以本次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SE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LM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言，分析學生與學習目標的套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50667-192B-4CC3-A902-48ED68718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DBC63-6A5B-4EDD-B04A-BD2F9B573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4FBCE-7418-4589-98AB-36C1E6FA1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D1B4D-77E0-4397-B434-9BBCBD70F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BF17C-6836-412F-AB42-5B9B9A410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以本次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SE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LM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言，分析學生與學習目標的套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A0CCE-B895-4ABD-B0AA-50EE9E0D4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以網路資源應用為選擇和使用的主要考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34A88-AB95-4956-9596-2519D716C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先介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9429D-EE90-4DDB-BBF0-BE4707965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國家數位典藏計畫也整理專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68D9D-B0E1-4180-9075-F9A45676A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SE+MOO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4ACC2-AC69-4B83-B988-7AEBA2F98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LM+K12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的平台機會：提供教師專業成長，帶領孩子主動學習，北市老師也可以申請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12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開課，或是自架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FDBEF-F327-410B-8355-6E2E94A5B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別忘了回到實體環境的訊應用機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84D0-DBC9-40A7-8A70-FD96A8293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F234-0991-42EC-A07A-D7A7BE0AE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E7E3-6DE5-45CA-8D7A-287794817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AF65-76F5-45BA-80D4-C269ED02E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2207-B0DE-4D0C-8E1A-A78117B52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EC98-7624-4BB2-AAC5-AB4FE622B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6FCB-B236-4EFF-9089-57EE0BF6F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A611-BBB4-4D61-9710-8BF7493DD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0BF8-EA5E-4C0A-BAC5-D82A7E9E6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08B9-A010-4DA6-B523-D70F1A81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C243-6F95-479F-B814-60831C51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5F60-8D9B-431F-A2A0-5EACEEBD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E8B4F-82B1-4D2C-93EB-5596B867FB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ise.edu.tw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dlm.ntu.edu.tw/dlm/land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wise.tku.edu.tw/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dlm.k12.edu.tw/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58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333399"/>
                </a:solidFill>
                <a:latin typeface="標楷體"/>
                <a:ea typeface="標楷體"/>
              </a:rPr>
              <a:t>添加網路教育味：</a:t>
            </a:r>
            <a:br>
              <a:rPr sz="4400"/>
            </a:br>
            <a:r>
              <a:rPr b="1" lang="zh-TW" sz="4400" spc="-1" strike="noStrike">
                <a:solidFill>
                  <a:srgbClr val="333399"/>
                </a:solidFill>
                <a:latin typeface="標楷體"/>
                <a:ea typeface="標楷體"/>
              </a:rPr>
              <a:t>探索式教學設計</a:t>
            </a:r>
            <a:r>
              <a:rPr b="1" lang="en-US" sz="4400" spc="-1" strike="noStrike">
                <a:solidFill>
                  <a:srgbClr val="333399"/>
                </a:solidFill>
                <a:latin typeface="標楷體"/>
                <a:ea typeface="標楷體"/>
              </a:rPr>
              <a:t>(WebQuest)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11280" y="4723920"/>
            <a:ext cx="396072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張原禎老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台北縣德音國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916360" y="63133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580000" y="260280"/>
            <a:ext cx="7772400" cy="8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Arial"/>
                <a:ea typeface="標楷體"/>
              </a:rPr>
              <a:t>群組教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6"/>
          <p:cNvPicPr/>
          <p:nvPr/>
        </p:nvPicPr>
        <p:blipFill>
          <a:blip r:embed="rId1"/>
          <a:stretch/>
        </p:blipFill>
        <p:spPr>
          <a:xfrm>
            <a:off x="468360" y="1341360"/>
            <a:ext cx="8209080" cy="524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867280" y="260280"/>
            <a:ext cx="7772400" cy="8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Arial"/>
                <a:ea typeface="標楷體"/>
              </a:rPr>
              <a:t>電腦教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2"/>
          <p:cNvPicPr/>
          <p:nvPr/>
        </p:nvPicPr>
        <p:blipFill>
          <a:blip r:embed="rId1"/>
          <a:stretch/>
        </p:blipFill>
        <p:spPr>
          <a:xfrm>
            <a:off x="539640" y="1413000"/>
            <a:ext cx="8280360" cy="512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867280" y="260280"/>
            <a:ext cx="7772400" cy="8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Arial"/>
                <a:ea typeface="標楷體"/>
              </a:rPr>
              <a:t>行動學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Resize of IMG_0200"/>
          <p:cNvPicPr/>
          <p:nvPr/>
        </p:nvPicPr>
        <p:blipFill>
          <a:blip r:embed="rId1"/>
          <a:stretch/>
        </p:blipFill>
        <p:spPr>
          <a:xfrm>
            <a:off x="1042920" y="1290600"/>
            <a:ext cx="7850160" cy="523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240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ntroduction</a:t>
            </a:r>
            <a:r>
              <a:rPr b="1" lang="zh-TW" sz="2800" spc="-1" strike="noStrike">
                <a:solidFill>
                  <a:srgbClr val="333399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Arial"/>
                <a:ea typeface="標楷體"/>
              </a:rPr>
              <a:t>引發學習動機與情境引導的介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ask</a:t>
            </a:r>
            <a:r>
              <a:rPr b="1" lang="zh-TW" sz="2800" spc="-1" strike="noStrike">
                <a:solidFill>
                  <a:srgbClr val="333399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標楷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標楷體"/>
                <a:ea typeface="標楷體"/>
              </a:rPr>
              <a:t>學習</a:t>
            </a:r>
            <a:r>
              <a:rPr b="1" lang="en-US" sz="2400" spc="-1" strike="noStrike">
                <a:solidFill>
                  <a:srgbClr val="333399"/>
                </a:solidFill>
                <a:latin typeface="標楷體"/>
                <a:ea typeface="標楷體"/>
              </a:rPr>
              <a:t>(</a:t>
            </a:r>
            <a:r>
              <a:rPr b="1" lang="zh-TW" sz="2400" spc="-1" strike="noStrike">
                <a:solidFill>
                  <a:srgbClr val="333399"/>
                </a:solidFill>
                <a:latin typeface="標楷體"/>
                <a:ea typeface="標楷體"/>
              </a:rPr>
              <a:t>個人活分組的工作目標</a:t>
            </a:r>
            <a:r>
              <a:rPr b="1" lang="en-US" sz="2400" spc="-1" strike="noStrike">
                <a:solidFill>
                  <a:srgbClr val="333399"/>
                </a:solidFill>
                <a:latin typeface="標楷體"/>
                <a:ea typeface="標楷體"/>
              </a:rPr>
              <a:t>)</a:t>
            </a:r>
            <a:r>
              <a:rPr b="1" lang="zh-TW" sz="2400" spc="-1" strike="noStrike">
                <a:solidFill>
                  <a:srgbClr val="333399"/>
                </a:solidFill>
                <a:latin typeface="標楷體"/>
                <a:ea typeface="標楷體"/>
              </a:rPr>
              <a:t>任務的描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rocess</a:t>
            </a:r>
            <a:r>
              <a:rPr b="1" lang="zh-TW" sz="2800" spc="-1" strike="noStrike">
                <a:solidFill>
                  <a:srgbClr val="333399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Arial"/>
                <a:ea typeface="標楷體"/>
              </a:rPr>
              <a:t>探索過程的安排與指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Resources</a:t>
            </a:r>
            <a:r>
              <a:rPr b="1" lang="zh-TW" sz="2800" spc="-1" strike="noStrike">
                <a:solidFill>
                  <a:srgbClr val="333399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Arial"/>
                <a:ea typeface="標楷體"/>
              </a:rPr>
              <a:t>網站連結或其他資源列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valuation</a:t>
            </a:r>
            <a:r>
              <a:rPr b="1" lang="zh-TW" sz="2800" spc="-1" strike="noStrike">
                <a:solidFill>
                  <a:srgbClr val="333399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Arial"/>
                <a:ea typeface="標楷體"/>
              </a:rPr>
              <a:t>描述達成任務的要求與評分方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onclusion</a:t>
            </a:r>
            <a:r>
              <a:rPr b="1" lang="zh-TW" sz="2800" spc="-1" strike="noStrike">
                <a:solidFill>
                  <a:srgbClr val="333399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Arial"/>
                <a:ea typeface="標楷體"/>
              </a:rPr>
              <a:t>說明完成本次學習的意義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Arial"/>
                <a:ea typeface="標楷體"/>
              </a:rPr>
              <a:t>再提供延伸加廣學習的機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5040360" y="259920"/>
            <a:ext cx="8207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標楷體"/>
                <a:ea typeface="標楷體"/>
              </a:rPr>
              <a:t>WebQuest</a:t>
            </a:r>
            <a:r>
              <a:rPr b="1" lang="zh-TW" sz="4400" spc="-1" strike="noStrike">
                <a:solidFill>
                  <a:srgbClr val="ffff00"/>
                </a:solidFill>
                <a:latin typeface="標楷體"/>
                <a:ea typeface="標楷體"/>
              </a:rPr>
              <a:t>規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ind great sites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標楷體"/>
              </a:rPr>
              <a:t>發現很棒的網站，甚至您只用其中一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Orchestrate your learners and resources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標楷體"/>
              </a:rPr>
              <a:t>將學生與學習資源建立良好連結，就好像一場交響樂團合奏的完美演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hallenge your learners to think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標楷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標楷體"/>
                <a:ea typeface="標楷體"/>
              </a:rPr>
              <a:t>提供合適的挑戰，刺激</a:t>
            </a:r>
            <a:r>
              <a:rPr b="1" lang="en-US" sz="2400" spc="-1" strike="noStrike">
                <a:solidFill>
                  <a:srgbClr val="333399"/>
                </a:solidFill>
                <a:latin typeface="標楷體"/>
                <a:ea typeface="標楷體"/>
              </a:rPr>
              <a:t>(</a:t>
            </a:r>
            <a:r>
              <a:rPr b="1" lang="en-US" sz="2400" spc="-1" strike="noStrike">
                <a:solidFill>
                  <a:srgbClr val="333399"/>
                </a:solidFill>
                <a:latin typeface="標楷體"/>
                <a:ea typeface="標楷體"/>
              </a:rPr>
              <a:t>鼓勵</a:t>
            </a:r>
            <a:r>
              <a:rPr b="1" lang="en-US" sz="2400" spc="-1" strike="noStrike">
                <a:solidFill>
                  <a:srgbClr val="333399"/>
                </a:solidFill>
                <a:latin typeface="標楷體"/>
                <a:ea typeface="標楷體"/>
              </a:rPr>
              <a:t>)</a:t>
            </a:r>
            <a:r>
              <a:rPr b="1" lang="en-US" sz="2400" spc="-1" strike="noStrike">
                <a:solidFill>
                  <a:srgbClr val="333399"/>
                </a:solidFill>
                <a:latin typeface="標楷體"/>
                <a:ea typeface="標楷體"/>
              </a:rPr>
              <a:t>學生進行思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Use the medium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標楷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標楷體"/>
                <a:ea typeface="標楷體"/>
              </a:rPr>
              <a:t>應用媒體，也可以善用圖書與社區資源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caffold high expectations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標楷體"/>
              </a:rPr>
              <a:t>提供鷹架讓學生感知新事物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標楷體"/>
              </a:rPr>
              <a:t>建立學習遷移並產出創新作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5508720" y="333000"/>
            <a:ext cx="8207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標楷體"/>
                <a:ea typeface="標楷體"/>
              </a:rPr>
              <a:t>FOCUS</a:t>
            </a:r>
            <a:r>
              <a:rPr b="1" lang="zh-TW" sz="4400" spc="-1" strike="noStrike">
                <a:solidFill>
                  <a:srgbClr val="ffff00"/>
                </a:solidFill>
                <a:latin typeface="標楷體"/>
                <a:ea typeface="標楷體"/>
              </a:rPr>
              <a:t>原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245200" y="259920"/>
            <a:ext cx="3898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標楷體"/>
                <a:ea typeface="標楷體"/>
              </a:rPr>
              <a:t>12</a:t>
            </a:r>
            <a:r>
              <a:rPr b="1" lang="zh-TW" sz="4400" spc="-1" strike="noStrike">
                <a:solidFill>
                  <a:srgbClr val="ffff00"/>
                </a:solidFill>
                <a:latin typeface="標楷體"/>
                <a:ea typeface="標楷體"/>
              </a:rPr>
              <a:t>種任務能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99"/>
                </a:solidFill>
                <a:latin typeface="Arial"/>
                <a:ea typeface="標楷體"/>
              </a:rPr>
              <a:t>口語表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99"/>
                </a:solidFill>
                <a:latin typeface="Arial"/>
                <a:ea typeface="標楷體"/>
              </a:rPr>
              <a:t>編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99"/>
                </a:solidFill>
                <a:latin typeface="Arial"/>
                <a:ea typeface="標楷體"/>
              </a:rPr>
              <a:t>推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99"/>
                </a:solidFill>
                <a:latin typeface="Arial"/>
                <a:ea typeface="標楷體"/>
              </a:rPr>
              <a:t>新聞記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99"/>
                </a:solidFill>
                <a:latin typeface="Arial"/>
                <a:ea typeface="標楷體"/>
              </a:rPr>
              <a:t>設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99"/>
                </a:solidFill>
                <a:latin typeface="Arial"/>
                <a:ea typeface="標楷體"/>
              </a:rPr>
              <a:t>創造產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99"/>
                </a:solidFill>
                <a:latin typeface="Arial"/>
                <a:ea typeface="標楷體"/>
              </a:rPr>
              <a:t>共識建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99"/>
                </a:solidFill>
                <a:latin typeface="Arial"/>
                <a:ea typeface="標楷體"/>
              </a:rPr>
              <a:t>說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99"/>
                </a:solidFill>
                <a:latin typeface="Arial"/>
                <a:ea typeface="標楷體"/>
              </a:rPr>
              <a:t>自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99"/>
                </a:solidFill>
                <a:latin typeface="Arial"/>
                <a:ea typeface="標楷體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99"/>
                </a:solidFill>
                <a:latin typeface="Arial"/>
                <a:ea typeface="標楷體"/>
              </a:rPr>
              <a:t>判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99"/>
                </a:solidFill>
                <a:latin typeface="Arial"/>
                <a:ea typeface="標楷體"/>
              </a:rPr>
              <a:t>科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229600" cy="37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3399"/>
                </a:solidFill>
                <a:latin typeface="Arial"/>
                <a:ea typeface="標楷體"/>
              </a:rPr>
              <a:t>教學主題豐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3399"/>
                </a:solidFill>
                <a:latin typeface="Arial"/>
                <a:ea typeface="標楷體"/>
              </a:rPr>
              <a:t>教學內容深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3399"/>
                </a:solidFill>
                <a:latin typeface="Arial"/>
                <a:ea typeface="標楷體"/>
              </a:rPr>
              <a:t>教學目標涵蓋所有高層次思考技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3399"/>
                </a:solidFill>
                <a:latin typeface="Arial"/>
                <a:ea typeface="標楷體"/>
              </a:rPr>
              <a:t>可培養多元能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3399"/>
                </a:solidFill>
                <a:latin typeface="Arial"/>
                <a:ea typeface="標楷體"/>
              </a:rPr>
              <a:t>學習任務性質真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5148360" y="333000"/>
            <a:ext cx="8207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標楷體"/>
                <a:ea typeface="標楷體"/>
              </a:rPr>
              <a:t>27</a:t>
            </a:r>
            <a:r>
              <a:rPr b="1" lang="zh-TW" sz="4400" spc="-1" strike="noStrike">
                <a:solidFill>
                  <a:srgbClr val="ffff00"/>
                </a:solidFill>
                <a:latin typeface="標楷體"/>
                <a:ea typeface="標楷體"/>
              </a:rPr>
              <a:t>種模式特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 WebQuest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ebquest.sdsu.edu/webquest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99"/>
                </a:solidFill>
                <a:latin typeface="Arial"/>
                <a:ea typeface="標楷體"/>
              </a:rPr>
              <a:t>惟存教育：網路主題探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being.org.cn/webquest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香港中文大學</a:t>
            </a:r>
            <a:r>
              <a:rPr b="0" lang="en-US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WebQuest</a:t>
            </a:r>
            <a:r>
              <a:rPr b="0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資源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course.fed.cuhk.edu.hk/community/webquest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5292720" y="259920"/>
            <a:ext cx="3384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Arial"/>
                <a:ea typeface="標楷體"/>
              </a:rPr>
              <a:t>網站介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65200" y="-27360"/>
            <a:ext cx="397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Ur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"/>
          <p:cNvPicPr/>
          <p:nvPr/>
        </p:nvPicPr>
        <p:blipFill>
          <a:blip r:embed="rId1"/>
          <a:stretch/>
        </p:blipFill>
        <p:spPr>
          <a:xfrm>
            <a:off x="60480" y="1422360"/>
            <a:ext cx="9048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65200" y="-27360"/>
            <a:ext cx="397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Google Ear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4271400" y="3245760"/>
            <a:ext cx="6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「規劃一項展覽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4271400" y="3245760"/>
            <a:ext cx="6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「規劃一項展覽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3801744676"/>
          <p:cNvPicPr/>
          <p:nvPr/>
        </p:nvPicPr>
        <p:blipFill>
          <a:blip r:embed="rId1"/>
          <a:stretch/>
        </p:blipFill>
        <p:spPr>
          <a:xfrm>
            <a:off x="36360" y="977760"/>
            <a:ext cx="9072720" cy="583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複製、貼上的</a:t>
            </a:r>
            <a:r>
              <a:rPr b="1" lang="en-US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a50021"/>
                </a:solidFill>
                <a:latin typeface="標楷體"/>
                <a:ea typeface="標楷體"/>
              </a:rPr>
              <a:t>請找出十個介紹</a:t>
            </a:r>
            <a:r>
              <a:rPr b="1" lang="en-US" sz="3200" spc="-1" strike="noStrike">
                <a:solidFill>
                  <a:srgbClr val="a50021"/>
                </a:solidFill>
                <a:latin typeface="標楷體"/>
                <a:ea typeface="標楷體"/>
              </a:rPr>
              <a:t>WebQuest</a:t>
            </a:r>
            <a:r>
              <a:rPr b="1" lang="zh-TW" sz="3200" spc="-1" strike="noStrike">
                <a:solidFill>
                  <a:srgbClr val="a50021"/>
                </a:solidFill>
                <a:latin typeface="標楷體"/>
                <a:ea typeface="標楷體"/>
              </a:rPr>
              <a:t>的網站連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a50021"/>
                </a:solidFill>
                <a:latin typeface="標楷體"/>
                <a:ea typeface="標楷體"/>
              </a:rPr>
              <a:t>請寫出十個自己可以利用</a:t>
            </a:r>
            <a:r>
              <a:rPr b="1" lang="en-US" sz="3200" spc="-1" strike="noStrike">
                <a:solidFill>
                  <a:srgbClr val="a50021"/>
                </a:solidFill>
                <a:latin typeface="標楷體"/>
                <a:ea typeface="標楷體"/>
              </a:rPr>
              <a:t>WebQuest</a:t>
            </a:r>
            <a:r>
              <a:rPr b="1" lang="zh-TW" sz="3200" spc="-1" strike="noStrike">
                <a:solidFill>
                  <a:srgbClr val="a50021"/>
                </a:solidFill>
                <a:latin typeface="標楷體"/>
                <a:ea typeface="標楷體"/>
              </a:rPr>
              <a:t>進行資訊融入教學的想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學生</a:t>
            </a:r>
            <a:r>
              <a:rPr b="1" lang="en-US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Busy</a:t>
            </a:r>
            <a:r>
              <a:rPr b="1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，老師</a:t>
            </a:r>
            <a:r>
              <a:rPr b="1" lang="en-US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Eas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457200" y="836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  <a:ea typeface="標楷體"/>
              </a:rPr>
              <a:t>Is it a good ques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716000" y="43920"/>
            <a:ext cx="397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Google Ear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4271400" y="3245760"/>
            <a:ext cx="6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「規劃一項展覽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4271400" y="3245760"/>
            <a:ext cx="6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「規劃一項展覽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3140957526"/>
          <p:cNvPicPr/>
          <p:nvPr/>
        </p:nvPicPr>
        <p:blipFill>
          <a:blip r:embed="rId1"/>
          <a:stretch/>
        </p:blipFill>
        <p:spPr>
          <a:xfrm>
            <a:off x="203040" y="1125360"/>
            <a:ext cx="883296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23000" y="43920"/>
            <a:ext cx="397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ogle Ear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2381257515"/>
          <p:cNvPicPr/>
          <p:nvPr/>
        </p:nvPicPr>
        <p:blipFill>
          <a:blip r:embed="rId1"/>
          <a:stretch/>
        </p:blipFill>
        <p:spPr>
          <a:xfrm>
            <a:off x="60480" y="1112760"/>
            <a:ext cx="897552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a50021"/>
                </a:solidFill>
                <a:latin typeface="Arial"/>
                <a:ea typeface="標楷體"/>
              </a:rPr>
              <a:t>下一節課再出發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99"/>
                </a:solidFill>
                <a:latin typeface="Arial"/>
                <a:ea typeface="標楷體"/>
              </a:rPr>
              <a:t>常態、持續運作與對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99"/>
                </a:solidFill>
                <a:latin typeface="Arial"/>
                <a:ea typeface="標楷體"/>
              </a:rPr>
              <a:t>工具應用與整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99"/>
                </a:solidFill>
                <a:latin typeface="Arial"/>
                <a:ea typeface="標楷體"/>
              </a:rPr>
              <a:t>研習產出與合作分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99"/>
                </a:solidFill>
                <a:latin typeface="Arial"/>
                <a:ea typeface="標楷體"/>
              </a:rPr>
              <a:t>校內環境、平台與系統整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668880" y="5013360"/>
            <a:ext cx="309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張原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ail:biglearner@gmai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g:blog.biglearner.t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ShockwaveFlash1"/>
          <p:cNvGraphicFramePr/>
          <p:nvPr/>
        </p:nvGraphicFramePr>
        <p:xfrm>
          <a:off x="539640" y="2060640"/>
          <a:ext cx="8013960" cy="187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060640"/>
                    <a:ext cx="8013960" cy="1873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99"/>
                </a:solidFill>
                <a:latin typeface="Arial"/>
                <a:ea typeface="標楷體"/>
              </a:rPr>
              <a:t>適合高中程度的領域網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99"/>
                </a:solidFill>
                <a:latin typeface="Arial"/>
                <a:ea typeface="標楷體"/>
              </a:rPr>
              <a:t>規劃學生主題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99"/>
                </a:solidFill>
                <a:latin typeface="Arial"/>
                <a:ea typeface="標楷體"/>
              </a:rPr>
              <a:t>也分析老師自己：領域專業與資訊應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457200" y="836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800000"/>
                </a:solidFill>
                <a:latin typeface="Arial"/>
                <a:ea typeface="標楷體"/>
              </a:rPr>
              <a:t>現在的高中生與課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240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99"/>
                </a:solidFill>
                <a:latin typeface="Arial"/>
                <a:ea typeface="標楷體"/>
              </a:rPr>
              <a:t>國家資源的智慧公共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直接連結引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組合網站資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修改與自製數位教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規劃主題式探索活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整合實體、網路教學平台</a:t>
            </a:r>
            <a:br>
              <a:rPr sz="3200"/>
            </a:br>
            <a:r>
              <a:rPr b="1" lang="zh-TW" sz="3200" spc="-1" strike="noStrike">
                <a:solidFill>
                  <a:srgbClr val="333399"/>
                </a:solidFill>
                <a:latin typeface="標楷體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325440" y="1341000"/>
            <a:ext cx="8207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a50021"/>
                </a:solidFill>
                <a:latin typeface="標楷體"/>
                <a:ea typeface="標楷體"/>
              </a:rPr>
              <a:t>資源應用類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wis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125360"/>
            <a:ext cx="7345440" cy="555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gol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03280" y="1231920"/>
            <a:ext cx="686772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ewis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177920"/>
            <a:ext cx="833940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dlmk1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4720" y="1197000"/>
            <a:ext cx="7704000" cy="56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580000" y="260280"/>
            <a:ext cx="7772400" cy="8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Arial"/>
                <a:ea typeface="標楷體"/>
              </a:rPr>
              <a:t>一般教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4" descr="7"/>
          <p:cNvPicPr/>
          <p:nvPr/>
        </p:nvPicPr>
        <p:blipFill>
          <a:blip r:embed="rId1"/>
          <a:stretch/>
        </p:blipFill>
        <p:spPr>
          <a:xfrm>
            <a:off x="539640" y="1341360"/>
            <a:ext cx="8209080" cy="5376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6:48:44Z</dcterms:created>
  <dc:creator>chienchung</dc:creator>
  <dc:description/>
  <dc:language>en-US</dc:language>
  <cp:lastModifiedBy>good</cp:lastModifiedBy>
  <dcterms:modified xsi:type="dcterms:W3CDTF">2009-04-05T13:17:35Z</dcterms:modified>
  <cp:revision>104</cp:revision>
  <dc:subject/>
  <dc:title>投影片 1</dc:title>
</cp:coreProperties>
</file>